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E17C-B612-4884-BA75-A477CC2C6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641D-7A12-4CD9-BF49-71B052DC8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47DAF-4586-4D88-8551-B18D0940D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5107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01E70-799C-4092-B45A-1C92CFD5F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6020F-B48B-40FC-85C5-CCBC20E56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1696-A245-4D37-8C78-9085E9D2FF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7A15D-F3E1-4031-BF6C-2BE9E4977D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A3178-42D9-488C-8FA4-475E0265F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2BA66-F363-405B-A713-A14B22CF8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A504-D2A7-4DF5-8916-9DCA90CBD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90DD-598F-45ED-B6C4-E5901EE90E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E7F61-095E-4DF6-80BC-3CE613741A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277D7-20AA-483E-9901-B7F2A4CE7D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B9528-09E2-43FF-902C-1BB613793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B034-5837-4FCC-A4B6-29860D9C6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5"/>
          <p:cNvSpPr/>
          <p:nvPr/>
        </p:nvSpPr>
        <p:spPr>
          <a:xfrm>
            <a:off x="0" y="6642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13 The Pennsylvania State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495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notechnology Applica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SC 2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2660760" y="914400"/>
            <a:ext cx="3908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 moves through the oxide layer to react with the silicon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 diffuses from an area of high concentration (gas) to an area of low oxygen conc. (silicon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ck’s first law states that the particle flow per unit area, J (particle flux), is directly proportional to the concentration gradient of the partic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= -D∂N(x,t)/∂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462"/>
          <p:cNvGrpSpPr/>
          <p:nvPr/>
        </p:nvGrpSpPr>
        <p:grpSpPr>
          <a:xfrm>
            <a:off x="533520" y="1981080"/>
            <a:ext cx="6858000" cy="4038840"/>
            <a:chOff x="533520" y="1981080"/>
            <a:chExt cx="6858000" cy="4038840"/>
          </a:xfrm>
        </p:grpSpPr>
        <p:pic>
          <p:nvPicPr>
            <p:cNvPr id="154" name="Group 461" descr=""/>
            <p:cNvPicPr/>
            <p:nvPr/>
          </p:nvPicPr>
          <p:blipFill>
            <a:blip r:embed="rId1"/>
            <a:stretch/>
          </p:blipFill>
          <p:spPr>
            <a:xfrm>
              <a:off x="533520" y="1981080"/>
              <a:ext cx="6812640" cy="40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459"/>
            <p:cNvSpPr/>
            <p:nvPr/>
          </p:nvSpPr>
          <p:spPr>
            <a:xfrm>
              <a:off x="542520" y="3002400"/>
              <a:ext cx="6849000" cy="170244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Box 463"/>
          <p:cNvSpPr/>
          <p:nvPr/>
        </p:nvSpPr>
        <p:spPr>
          <a:xfrm>
            <a:off x="7552440" y="220968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64"/>
          <p:cNvSpPr/>
          <p:nvPr/>
        </p:nvSpPr>
        <p:spPr>
          <a:xfrm>
            <a:off x="7553520" y="3657600"/>
            <a:ext cx="63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65"/>
          <p:cNvSpPr/>
          <p:nvPr/>
        </p:nvSpPr>
        <p:spPr>
          <a:xfrm>
            <a:off x="7547400" y="51055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usion of Oxy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Straight Arrow Connector 469"/>
          <p:cNvCxnSpPr/>
          <p:nvPr/>
        </p:nvCxnSpPr>
        <p:spPr>
          <a:xfrm flipH="1">
            <a:off x="7229160" y="5290200"/>
            <a:ext cx="40392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1" name="Straight Arrow Connector 472"/>
          <p:cNvCxnSpPr/>
          <p:nvPr/>
        </p:nvCxnSpPr>
        <p:spPr>
          <a:xfrm flipH="1" flipV="1">
            <a:off x="7238520" y="2374560"/>
            <a:ext cx="332640" cy="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2" name="TextBox 15"/>
          <p:cNvSpPr/>
          <p:nvPr/>
        </p:nvSpPr>
        <p:spPr>
          <a:xfrm>
            <a:off x="304920" y="6095880"/>
            <a:ext cx="293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blic Domain: Image generated by CNEU Staff for free 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icon in the wafer is consumed as the oxide gr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for every 1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Å of oxide grown, 400Å of silicon is consu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1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yer of oxide, the wafer physically grows only 6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Å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– Silicon d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ypes of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nace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y 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 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Pressure Ox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Vapor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ing Dielectric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Ox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ed a contaminant.  It grows naturally on silicon at room temperature due to the presence of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ambient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ach a maximum thickness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~40Å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ighly pure, specifically grown oxide that acts as a dielectric between the gate, source, and drain on the MOS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al thickness is between 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everal hundr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Å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urity and thinner oxides lead to the production of faster de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Ox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952600" y="4952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7"/>
          <p:cNvGrpSpPr/>
          <p:nvPr/>
        </p:nvGrpSpPr>
        <p:grpSpPr>
          <a:xfrm>
            <a:off x="533520" y="3581280"/>
            <a:ext cx="3660480" cy="1143000"/>
            <a:chOff x="533520" y="3581280"/>
            <a:chExt cx="3660480" cy="1143000"/>
          </a:xfrm>
        </p:grpSpPr>
        <p:sp>
          <p:nvSpPr>
            <p:cNvPr id="172" name="Rectangle 5"/>
            <p:cNvSpPr/>
            <p:nvPr/>
          </p:nvSpPr>
          <p:spPr>
            <a:xfrm>
              <a:off x="536400" y="3733560"/>
              <a:ext cx="3657600" cy="990720"/>
            </a:xfrm>
            <a:prstGeom prst="rect">
              <a:avLst/>
            </a:prstGeom>
            <a:solidFill>
              <a:srgbClr val="222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+ S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"/>
            <p:cNvSpPr/>
            <p:nvPr/>
          </p:nvSpPr>
          <p:spPr>
            <a:xfrm>
              <a:off x="533520" y="3581280"/>
              <a:ext cx="3657600" cy="1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Box 8"/>
          <p:cNvSpPr/>
          <p:nvPr/>
        </p:nvSpPr>
        <p:spPr>
          <a:xfrm>
            <a:off x="465840" y="2514600"/>
            <a:ext cx="2917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tive Oxide (200n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27"/>
          <p:cNvGrpSpPr/>
          <p:nvPr/>
        </p:nvGrpSpPr>
        <p:grpSpPr>
          <a:xfrm>
            <a:off x="4876920" y="3292560"/>
            <a:ext cx="3660480" cy="1431720"/>
            <a:chOff x="4876920" y="3292560"/>
            <a:chExt cx="3660480" cy="1431720"/>
          </a:xfrm>
        </p:grpSpPr>
        <p:grpSp>
          <p:nvGrpSpPr>
            <p:cNvPr id="176" name="Group 9"/>
            <p:cNvGrpSpPr/>
            <p:nvPr/>
          </p:nvGrpSpPr>
          <p:grpSpPr>
            <a:xfrm>
              <a:off x="4876920" y="3657960"/>
              <a:ext cx="3660480" cy="1066320"/>
              <a:chOff x="4876920" y="3657960"/>
              <a:chExt cx="3660480" cy="1066320"/>
            </a:xfrm>
          </p:grpSpPr>
          <p:sp>
            <p:nvSpPr>
              <p:cNvPr id="177" name="Rectangle 10"/>
              <p:cNvSpPr/>
              <p:nvPr/>
            </p:nvSpPr>
            <p:spPr>
              <a:xfrm>
                <a:off x="4879800" y="3733920"/>
                <a:ext cx="3657600" cy="990360"/>
              </a:xfrm>
              <a:prstGeom prst="rect">
                <a:avLst/>
              </a:prstGeom>
              <a:solidFill>
                <a:srgbClr val="2222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+ Si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1"/>
              <p:cNvSpPr/>
              <p:nvPr/>
            </p:nvSpPr>
            <p:spPr>
              <a:xfrm>
                <a:off x="4876920" y="3657960"/>
                <a:ext cx="3657600" cy="759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Left Bracket 14"/>
            <p:cNvSpPr/>
            <p:nvPr/>
          </p:nvSpPr>
          <p:spPr>
            <a:xfrm rot="16200000">
              <a:off x="5859360" y="3398760"/>
              <a:ext cx="241200" cy="873000"/>
            </a:xfrm>
            <a:custGeom>
              <a:avLst/>
              <a:gdLst>
                <a:gd name="textAreaLeft" fmla="*/ 70920 w 241200"/>
                <a:gd name="textAreaRight" fmla="*/ 241560 w 241200"/>
                <a:gd name="textAreaTop" fmla="*/ 70920 h 873000"/>
                <a:gd name="textAreaBottom" fmla="*/ 802080 h 87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56"/>
                    <a:pt x="0" y="3511"/>
                  </a:cubicBezTo>
                  <a:lnTo>
                    <a:pt x="0" y="18089"/>
                  </a:lnTo>
                  <a:cubicBezTo>
                    <a:pt x="0" y="19845"/>
                    <a:pt x="10800" y="21600"/>
                    <a:pt x="21600" y="21600"/>
                  </a:cubicBezTo>
                </a:path>
              </a:pathLst>
            </a:custGeom>
            <a:solidFill>
              <a:srgbClr val="ffc000"/>
            </a:solidFill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eft Bracket 15"/>
            <p:cNvSpPr/>
            <p:nvPr/>
          </p:nvSpPr>
          <p:spPr>
            <a:xfrm rot="16200000">
              <a:off x="7297560" y="3408120"/>
              <a:ext cx="241200" cy="873000"/>
            </a:xfrm>
            <a:custGeom>
              <a:avLst/>
              <a:gdLst>
                <a:gd name="textAreaLeft" fmla="*/ 70920 w 241200"/>
                <a:gd name="textAreaRight" fmla="*/ 241560 w 241200"/>
                <a:gd name="textAreaTop" fmla="*/ 70920 h 873000"/>
                <a:gd name="textAreaBottom" fmla="*/ 802080 h 87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56"/>
                    <a:pt x="0" y="3511"/>
                  </a:cubicBezTo>
                  <a:lnTo>
                    <a:pt x="0" y="18089"/>
                  </a:lnTo>
                  <a:cubicBezTo>
                    <a:pt x="0" y="19845"/>
                    <a:pt x="10800" y="21600"/>
                    <a:pt x="21600" y="21600"/>
                  </a:cubicBezTo>
                </a:path>
              </a:pathLst>
            </a:custGeom>
            <a:solidFill>
              <a:srgbClr val="ffc000"/>
            </a:solidFill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lowchart: Delay 12"/>
            <p:cNvSpPr/>
            <p:nvPr/>
          </p:nvSpPr>
          <p:spPr>
            <a:xfrm>
              <a:off x="4876920" y="3570120"/>
              <a:ext cx="685800" cy="228600"/>
            </a:xfrm>
            <a:prstGeom prst="flowChartDelay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lowchart: Delay 13"/>
            <p:cNvSpPr/>
            <p:nvPr/>
          </p:nvSpPr>
          <p:spPr>
            <a:xfrm rot="10800000">
              <a:off x="7848360" y="3580920"/>
              <a:ext cx="685800" cy="228600"/>
            </a:xfrm>
            <a:prstGeom prst="flowChartDelay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rapezoid 16"/>
            <p:cNvSpPr/>
            <p:nvPr/>
          </p:nvSpPr>
          <p:spPr>
            <a:xfrm>
              <a:off x="6424560" y="3292560"/>
              <a:ext cx="572760" cy="365040"/>
            </a:xfrm>
            <a:custGeom>
              <a:avLst/>
              <a:gdLst/>
              <a:ahLst/>
              <a:rect l="l" t="t" r="r" b="b"/>
              <a:pathLst>
                <a:path w="573067" h="365287">
                  <a:moveTo>
                    <a:pt x="0" y="365287"/>
                  </a:moveTo>
                  <a:lnTo>
                    <a:pt x="44565" y="0"/>
                  </a:lnTo>
                  <a:lnTo>
                    <a:pt x="528502" y="0"/>
                  </a:lnTo>
                  <a:lnTo>
                    <a:pt x="573067" y="365287"/>
                  </a:lnTo>
                  <a:lnTo>
                    <a:pt x="0" y="365287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17"/>
            <p:cNvSpPr/>
            <p:nvPr/>
          </p:nvSpPr>
          <p:spPr>
            <a:xfrm>
              <a:off x="6371640" y="335340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8"/>
            <p:cNvSpPr/>
            <p:nvPr/>
          </p:nvSpPr>
          <p:spPr>
            <a:xfrm>
              <a:off x="7092000" y="3657960"/>
              <a:ext cx="7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19"/>
            <p:cNvSpPr/>
            <p:nvPr/>
          </p:nvSpPr>
          <p:spPr>
            <a:xfrm>
              <a:off x="5492520" y="365796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20"/>
          <p:cNvSpPr/>
          <p:nvPr/>
        </p:nvSpPr>
        <p:spPr>
          <a:xfrm>
            <a:off x="5112720" y="259092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traight Arrow Connector 22"/>
          <p:cNvCxnSpPr/>
          <p:nvPr/>
        </p:nvCxnSpPr>
        <p:spPr>
          <a:xfrm>
            <a:off x="5875920" y="2876040"/>
            <a:ext cx="610200" cy="81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23"/>
          <p:cNvCxnSpPr/>
          <p:nvPr/>
        </p:nvCxnSpPr>
        <p:spPr>
          <a:xfrm>
            <a:off x="1526040" y="2839680"/>
            <a:ext cx="610200" cy="81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TextBox 26"/>
          <p:cNvSpPr/>
          <p:nvPr/>
        </p:nvSpPr>
        <p:spPr>
          <a:xfrm>
            <a:off x="1450800" y="49528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5"/>
          <p:cNvSpPr/>
          <p:nvPr/>
        </p:nvSpPr>
        <p:spPr>
          <a:xfrm>
            <a:off x="304920" y="6095880"/>
            <a:ext cx="293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blic Domain: Image generated by CNEU Staff for free 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Ox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 Oxide (FO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isolate individual transistors from each other on a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thickness is between 2,5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Å – 15,000Å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ier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s active devices and silicon from furth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thickness is usually several hundr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Ox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5802480" y="48006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9"/>
          <p:cNvGrpSpPr/>
          <p:nvPr/>
        </p:nvGrpSpPr>
        <p:grpSpPr>
          <a:xfrm>
            <a:off x="304920" y="3200400"/>
            <a:ext cx="3660480" cy="1432080"/>
            <a:chOff x="304920" y="3200400"/>
            <a:chExt cx="3660480" cy="1432080"/>
          </a:xfrm>
        </p:grpSpPr>
        <p:grpSp>
          <p:nvGrpSpPr>
            <p:cNvPr id="197" name="Group 9"/>
            <p:cNvGrpSpPr/>
            <p:nvPr/>
          </p:nvGrpSpPr>
          <p:grpSpPr>
            <a:xfrm>
              <a:off x="304920" y="3565800"/>
              <a:ext cx="3660480" cy="1066680"/>
              <a:chOff x="304920" y="3565800"/>
              <a:chExt cx="3660480" cy="1066680"/>
            </a:xfrm>
          </p:grpSpPr>
          <p:sp>
            <p:nvSpPr>
              <p:cNvPr id="198" name="Rectangle 19"/>
              <p:cNvSpPr/>
              <p:nvPr/>
            </p:nvSpPr>
            <p:spPr>
              <a:xfrm>
                <a:off x="307800" y="3641760"/>
                <a:ext cx="3657600" cy="990720"/>
              </a:xfrm>
              <a:prstGeom prst="rect">
                <a:avLst/>
              </a:prstGeom>
              <a:solidFill>
                <a:srgbClr val="2222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+ Si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20"/>
              <p:cNvSpPr/>
              <p:nvPr/>
            </p:nvSpPr>
            <p:spPr>
              <a:xfrm>
                <a:off x="304920" y="3565800"/>
                <a:ext cx="3657600" cy="759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Left Bracket 11"/>
            <p:cNvSpPr/>
            <p:nvPr/>
          </p:nvSpPr>
          <p:spPr>
            <a:xfrm rot="16200000">
              <a:off x="1287360" y="3306600"/>
              <a:ext cx="241200" cy="873000"/>
            </a:xfrm>
            <a:custGeom>
              <a:avLst/>
              <a:gdLst>
                <a:gd name="textAreaLeft" fmla="*/ 70920 w 241200"/>
                <a:gd name="textAreaRight" fmla="*/ 241560 w 241200"/>
                <a:gd name="textAreaTop" fmla="*/ 70920 h 873000"/>
                <a:gd name="textAreaBottom" fmla="*/ 802080 h 87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56"/>
                    <a:pt x="0" y="3511"/>
                  </a:cubicBezTo>
                  <a:lnTo>
                    <a:pt x="0" y="18089"/>
                  </a:lnTo>
                  <a:cubicBezTo>
                    <a:pt x="0" y="19845"/>
                    <a:pt x="10800" y="21600"/>
                    <a:pt x="21600" y="21600"/>
                  </a:cubicBezTo>
                </a:path>
              </a:pathLst>
            </a:custGeom>
            <a:solidFill>
              <a:srgbClr val="ffc000"/>
            </a:solidFill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eft Bracket 12"/>
            <p:cNvSpPr/>
            <p:nvPr/>
          </p:nvSpPr>
          <p:spPr>
            <a:xfrm rot="16200000">
              <a:off x="2725560" y="3315960"/>
              <a:ext cx="241200" cy="873000"/>
            </a:xfrm>
            <a:custGeom>
              <a:avLst/>
              <a:gdLst>
                <a:gd name="textAreaLeft" fmla="*/ 70920 w 241200"/>
                <a:gd name="textAreaRight" fmla="*/ 241560 w 241200"/>
                <a:gd name="textAreaTop" fmla="*/ 70920 h 873000"/>
                <a:gd name="textAreaBottom" fmla="*/ 802080 h 87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56"/>
                    <a:pt x="0" y="3511"/>
                  </a:cubicBezTo>
                  <a:lnTo>
                    <a:pt x="0" y="18089"/>
                  </a:lnTo>
                  <a:cubicBezTo>
                    <a:pt x="0" y="19845"/>
                    <a:pt x="10800" y="21600"/>
                    <a:pt x="21600" y="21600"/>
                  </a:cubicBezTo>
                </a:path>
              </a:pathLst>
            </a:custGeom>
            <a:solidFill>
              <a:srgbClr val="ffc000"/>
            </a:solidFill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lowchart: Delay 13"/>
            <p:cNvSpPr/>
            <p:nvPr/>
          </p:nvSpPr>
          <p:spPr>
            <a:xfrm>
              <a:off x="304920" y="3477960"/>
              <a:ext cx="685800" cy="228600"/>
            </a:xfrm>
            <a:prstGeom prst="flowChartDelay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lowchart: Delay 14"/>
            <p:cNvSpPr/>
            <p:nvPr/>
          </p:nvSpPr>
          <p:spPr>
            <a:xfrm rot="10800000">
              <a:off x="3276360" y="3488760"/>
              <a:ext cx="685800" cy="228600"/>
            </a:xfrm>
            <a:prstGeom prst="flowChartDelay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rapezoid 15"/>
            <p:cNvSpPr/>
            <p:nvPr/>
          </p:nvSpPr>
          <p:spPr>
            <a:xfrm>
              <a:off x="1852560" y="3200400"/>
              <a:ext cx="572760" cy="365040"/>
            </a:xfrm>
            <a:custGeom>
              <a:avLst/>
              <a:gdLst/>
              <a:ahLst/>
              <a:rect l="l" t="t" r="r" b="b"/>
              <a:pathLst>
                <a:path w="573067" h="365287">
                  <a:moveTo>
                    <a:pt x="0" y="365287"/>
                  </a:moveTo>
                  <a:lnTo>
                    <a:pt x="44565" y="0"/>
                  </a:lnTo>
                  <a:lnTo>
                    <a:pt x="528502" y="0"/>
                  </a:lnTo>
                  <a:lnTo>
                    <a:pt x="573067" y="365287"/>
                  </a:lnTo>
                  <a:lnTo>
                    <a:pt x="0" y="365287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6"/>
            <p:cNvSpPr/>
            <p:nvPr/>
          </p:nvSpPr>
          <p:spPr>
            <a:xfrm>
              <a:off x="1800360" y="326124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17"/>
            <p:cNvSpPr/>
            <p:nvPr/>
          </p:nvSpPr>
          <p:spPr>
            <a:xfrm>
              <a:off x="2518560" y="356580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18"/>
            <p:cNvSpPr/>
            <p:nvPr/>
          </p:nvSpPr>
          <p:spPr>
            <a:xfrm>
              <a:off x="995760" y="358128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Box 21"/>
          <p:cNvSpPr/>
          <p:nvPr/>
        </p:nvSpPr>
        <p:spPr>
          <a:xfrm>
            <a:off x="993960" y="495288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23"/>
          <p:cNvCxnSpPr/>
          <p:nvPr/>
        </p:nvCxnSpPr>
        <p:spPr>
          <a:xfrm flipH="1">
            <a:off x="780840" y="2971440"/>
            <a:ext cx="210240" cy="47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0" name="TextBox 25"/>
          <p:cNvSpPr/>
          <p:nvPr/>
        </p:nvSpPr>
        <p:spPr>
          <a:xfrm>
            <a:off x="663840" y="264636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 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49"/>
          <p:cNvGrpSpPr/>
          <p:nvPr/>
        </p:nvGrpSpPr>
        <p:grpSpPr>
          <a:xfrm>
            <a:off x="4114800" y="2362320"/>
            <a:ext cx="4572000" cy="2270160"/>
            <a:chOff x="4114800" y="2362320"/>
            <a:chExt cx="4572000" cy="2270160"/>
          </a:xfrm>
        </p:grpSpPr>
        <p:grpSp>
          <p:nvGrpSpPr>
            <p:cNvPr id="212" name="Group 26"/>
            <p:cNvGrpSpPr/>
            <p:nvPr/>
          </p:nvGrpSpPr>
          <p:grpSpPr>
            <a:xfrm>
              <a:off x="4572000" y="3200400"/>
              <a:ext cx="3660840" cy="1432080"/>
              <a:chOff x="4572000" y="3200400"/>
              <a:chExt cx="3660840" cy="1432080"/>
            </a:xfrm>
          </p:grpSpPr>
          <p:grpSp>
            <p:nvGrpSpPr>
              <p:cNvPr id="213" name="Group 9"/>
              <p:cNvGrpSpPr/>
              <p:nvPr/>
            </p:nvGrpSpPr>
            <p:grpSpPr>
              <a:xfrm>
                <a:off x="4572000" y="3565800"/>
                <a:ext cx="3660840" cy="1066680"/>
                <a:chOff x="4572000" y="3565800"/>
                <a:chExt cx="3660840" cy="1066680"/>
              </a:xfrm>
            </p:grpSpPr>
            <p:sp>
              <p:nvSpPr>
                <p:cNvPr id="214" name="Rectangle 36"/>
                <p:cNvSpPr/>
                <p:nvPr/>
              </p:nvSpPr>
              <p:spPr>
                <a:xfrm>
                  <a:off x="4574880" y="3641760"/>
                  <a:ext cx="3657960" cy="990720"/>
                </a:xfrm>
                <a:prstGeom prst="rect">
                  <a:avLst/>
                </a:prstGeom>
                <a:solidFill>
                  <a:srgbClr val="2222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p+ Si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37"/>
                <p:cNvSpPr/>
                <p:nvPr/>
              </p:nvSpPr>
              <p:spPr>
                <a:xfrm>
                  <a:off x="4572000" y="3565800"/>
                  <a:ext cx="3657960" cy="759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Left Bracket 28"/>
              <p:cNvSpPr/>
              <p:nvPr/>
            </p:nvSpPr>
            <p:spPr>
              <a:xfrm rot="16200000">
                <a:off x="5554440" y="3306600"/>
                <a:ext cx="241200" cy="873000"/>
              </a:xfrm>
              <a:custGeom>
                <a:avLst/>
                <a:gdLst>
                  <a:gd name="textAreaLeft" fmla="*/ 70920 w 241200"/>
                  <a:gd name="textAreaRight" fmla="*/ 241560 w 241200"/>
                  <a:gd name="textAreaTop" fmla="*/ 70920 h 873000"/>
                  <a:gd name="textAreaBottom" fmla="*/ 802080 h 87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1756"/>
                      <a:pt x="0" y="3511"/>
                    </a:cubicBezTo>
                    <a:lnTo>
                      <a:pt x="0" y="18089"/>
                    </a:lnTo>
                    <a:cubicBezTo>
                      <a:pt x="0" y="19845"/>
                      <a:pt x="10800" y="21600"/>
                      <a:pt x="21600" y="21600"/>
                    </a:cubicBezTo>
                  </a:path>
                </a:pathLst>
              </a:custGeom>
              <a:solidFill>
                <a:srgbClr val="ffc000"/>
              </a:solidFill>
              <a:ln w="9360">
                <a:solidFill>
                  <a:srgbClr val="b6dcd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eft Bracket 29"/>
              <p:cNvSpPr/>
              <p:nvPr/>
            </p:nvSpPr>
            <p:spPr>
              <a:xfrm rot="16200000">
                <a:off x="6993000" y="3315960"/>
                <a:ext cx="241200" cy="873000"/>
              </a:xfrm>
              <a:custGeom>
                <a:avLst/>
                <a:gdLst>
                  <a:gd name="textAreaLeft" fmla="*/ 70920 w 241200"/>
                  <a:gd name="textAreaRight" fmla="*/ 241560 w 241200"/>
                  <a:gd name="textAreaTop" fmla="*/ 70920 h 873000"/>
                  <a:gd name="textAreaBottom" fmla="*/ 802080 h 87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1756"/>
                      <a:pt x="0" y="3511"/>
                    </a:cubicBezTo>
                    <a:lnTo>
                      <a:pt x="0" y="18089"/>
                    </a:lnTo>
                    <a:cubicBezTo>
                      <a:pt x="0" y="19845"/>
                      <a:pt x="10800" y="21600"/>
                      <a:pt x="21600" y="21600"/>
                    </a:cubicBezTo>
                  </a:path>
                </a:pathLst>
              </a:custGeom>
              <a:solidFill>
                <a:srgbClr val="ffc000"/>
              </a:solidFill>
              <a:ln w="9360">
                <a:solidFill>
                  <a:srgbClr val="b6dcd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lowchart: Delay 30"/>
              <p:cNvSpPr/>
              <p:nvPr/>
            </p:nvSpPr>
            <p:spPr>
              <a:xfrm>
                <a:off x="4572000" y="3477960"/>
                <a:ext cx="685800" cy="228600"/>
              </a:xfrm>
              <a:prstGeom prst="flowChartDelay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lowchart: Delay 31"/>
              <p:cNvSpPr/>
              <p:nvPr/>
            </p:nvSpPr>
            <p:spPr>
              <a:xfrm rot="10800000">
                <a:off x="7543800" y="3488760"/>
                <a:ext cx="685800" cy="228600"/>
              </a:xfrm>
              <a:prstGeom prst="flowChartDelay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rapezoid 32"/>
              <p:cNvSpPr/>
              <p:nvPr/>
            </p:nvSpPr>
            <p:spPr>
              <a:xfrm>
                <a:off x="6120000" y="3200400"/>
                <a:ext cx="573120" cy="365040"/>
              </a:xfrm>
              <a:custGeom>
                <a:avLst/>
                <a:gdLst/>
                <a:ahLst/>
                <a:rect l="l" t="t" r="r" b="b"/>
                <a:pathLst>
                  <a:path w="573087" h="365227">
                    <a:moveTo>
                      <a:pt x="0" y="365227"/>
                    </a:moveTo>
                    <a:lnTo>
                      <a:pt x="44558" y="0"/>
                    </a:lnTo>
                    <a:lnTo>
                      <a:pt x="528529" y="0"/>
                    </a:lnTo>
                    <a:lnTo>
                      <a:pt x="573087" y="365227"/>
                    </a:lnTo>
                    <a:lnTo>
                      <a:pt x="0" y="365227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Box 33"/>
              <p:cNvSpPr/>
              <p:nvPr/>
            </p:nvSpPr>
            <p:spPr>
              <a:xfrm>
                <a:off x="6067800" y="3260880"/>
                <a:ext cx="61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G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Box 34"/>
              <p:cNvSpPr/>
              <p:nvPr/>
            </p:nvSpPr>
            <p:spPr>
              <a:xfrm>
                <a:off x="6786000" y="3565800"/>
                <a:ext cx="66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rai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Box 35"/>
              <p:cNvSpPr/>
              <p:nvPr/>
            </p:nvSpPr>
            <p:spPr>
              <a:xfrm>
                <a:off x="5262840" y="3580920"/>
                <a:ext cx="82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Freeform 39"/>
            <p:cNvSpPr/>
            <p:nvPr/>
          </p:nvSpPr>
          <p:spPr>
            <a:xfrm>
              <a:off x="4565520" y="2836800"/>
              <a:ext cx="3664080" cy="730080"/>
            </a:xfrm>
            <a:custGeom>
              <a:avLst/>
              <a:gdLst/>
              <a:ahLst/>
              <a:rect l="l" t="t" r="r" b="b"/>
              <a:pathLst>
                <a:path w="3664179" h="730204">
                  <a:moveTo>
                    <a:pt x="6579" y="638106"/>
                  </a:moveTo>
                  <a:lnTo>
                    <a:pt x="401284" y="641396"/>
                  </a:lnTo>
                  <a:lnTo>
                    <a:pt x="542720" y="661131"/>
                  </a:lnTo>
                  <a:lnTo>
                    <a:pt x="628239" y="687444"/>
                  </a:lnTo>
                  <a:lnTo>
                    <a:pt x="670999" y="710469"/>
                  </a:lnTo>
                  <a:lnTo>
                    <a:pt x="687445" y="730204"/>
                  </a:lnTo>
                  <a:lnTo>
                    <a:pt x="1559085" y="726915"/>
                  </a:lnTo>
                  <a:lnTo>
                    <a:pt x="1601845" y="361813"/>
                  </a:lnTo>
                  <a:lnTo>
                    <a:pt x="2085359" y="365102"/>
                  </a:lnTo>
                  <a:lnTo>
                    <a:pt x="2128118" y="726915"/>
                  </a:lnTo>
                  <a:lnTo>
                    <a:pt x="2996469" y="730204"/>
                  </a:lnTo>
                  <a:lnTo>
                    <a:pt x="3045808" y="707180"/>
                  </a:lnTo>
                  <a:lnTo>
                    <a:pt x="3111592" y="680866"/>
                  </a:lnTo>
                  <a:lnTo>
                    <a:pt x="3190533" y="661131"/>
                  </a:lnTo>
                  <a:lnTo>
                    <a:pt x="3253028" y="654552"/>
                  </a:lnTo>
                  <a:lnTo>
                    <a:pt x="3664179" y="651263"/>
                  </a:lnTo>
                  <a:lnTo>
                    <a:pt x="3664179" y="0"/>
                  </a:lnTo>
                  <a:lnTo>
                    <a:pt x="0" y="0"/>
                  </a:lnTo>
                  <a:lnTo>
                    <a:pt x="6579" y="63810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ounded Rectangle 43"/>
            <p:cNvSpPr/>
            <p:nvPr/>
          </p:nvSpPr>
          <p:spPr>
            <a:xfrm>
              <a:off x="4114800" y="2362320"/>
              <a:ext cx="1905120" cy="914400"/>
            </a:xfrm>
            <a:prstGeom prst="roundRect">
              <a:avLst>
                <a:gd name="adj" fmla="val 38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ounded Rectangle 44"/>
            <p:cNvSpPr/>
            <p:nvPr/>
          </p:nvSpPr>
          <p:spPr>
            <a:xfrm>
              <a:off x="6781680" y="2362320"/>
              <a:ext cx="1905120" cy="914400"/>
            </a:xfrm>
            <a:prstGeom prst="roundRect">
              <a:avLst>
                <a:gd name="adj" fmla="val 38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Block Arc 48"/>
            <p:cNvSpPr/>
            <p:nvPr/>
          </p:nvSpPr>
          <p:spPr>
            <a:xfrm>
              <a:off x="5749920" y="2625840"/>
              <a:ext cx="1295280" cy="990720"/>
            </a:xfrm>
            <a:custGeom>
              <a:avLst/>
              <a:gdLst/>
              <a:ahLst/>
              <a:rect l="l" t="t" r="r" b="b"/>
              <a:pathLst>
                <a:path w="1295400" h="990877">
                  <a:moveTo>
                    <a:pt x="0" y="495439"/>
                  </a:moveTo>
                  <a:cubicBezTo>
                    <a:pt x="0" y="221816"/>
                    <a:pt x="289985" y="0"/>
                    <a:pt x="647700" y="0"/>
                  </a:cubicBezTo>
                  <a:cubicBezTo>
                    <a:pt x="1005415" y="0"/>
                    <a:pt x="1295400" y="221816"/>
                    <a:pt x="1295400" y="495439"/>
                  </a:cubicBezTo>
                  <a:lnTo>
                    <a:pt x="1078170" y="495439"/>
                  </a:lnTo>
                  <a:cubicBezTo>
                    <a:pt x="1078170" y="341788"/>
                    <a:pt x="885442" y="217230"/>
                    <a:pt x="647700" y="217230"/>
                  </a:cubicBezTo>
                  <a:cubicBezTo>
                    <a:pt x="409958" y="217230"/>
                    <a:pt x="217230" y="341788"/>
                    <a:pt x="217230" y="495439"/>
                  </a:cubicBezTo>
                  <a:lnTo>
                    <a:pt x="0" y="4954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TextBox 50"/>
          <p:cNvSpPr/>
          <p:nvPr/>
        </p:nvSpPr>
        <p:spPr>
          <a:xfrm>
            <a:off x="4353120" y="213372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rier 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Straight Arrow Connector 52"/>
          <p:cNvCxnSpPr>
            <a:stCxn id="228" idx="2"/>
          </p:cNvCxnSpPr>
          <p:nvPr/>
        </p:nvCxnSpPr>
        <p:spPr>
          <a:xfrm>
            <a:off x="5114880" y="2503080"/>
            <a:ext cx="799200" cy="65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0" name="Trapezoid 53"/>
          <p:cNvSpPr/>
          <p:nvPr/>
        </p:nvSpPr>
        <p:spPr>
          <a:xfrm>
            <a:off x="4724280" y="3048120"/>
            <a:ext cx="914400" cy="228600"/>
          </a:xfrm>
          <a:custGeom>
            <a:avLst/>
            <a:gdLst/>
            <a:ahLst/>
            <a:rect l="l" t="t" r="r" b="b"/>
            <a:pathLst>
              <a:path w="914400" h="228600">
                <a:moveTo>
                  <a:pt x="0" y="228600"/>
                </a:moveTo>
                <a:lnTo>
                  <a:pt x="57150" y="0"/>
                </a:lnTo>
                <a:lnTo>
                  <a:pt x="857250" y="0"/>
                </a:lnTo>
                <a:lnTo>
                  <a:pt x="914400" y="228600"/>
                </a:lnTo>
                <a:lnTo>
                  <a:pt x="0" y="2286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rapezoid 54"/>
          <p:cNvSpPr/>
          <p:nvPr/>
        </p:nvSpPr>
        <p:spPr>
          <a:xfrm>
            <a:off x="7162920" y="3048120"/>
            <a:ext cx="914400" cy="228600"/>
          </a:xfrm>
          <a:custGeom>
            <a:avLst/>
            <a:gdLst/>
            <a:ahLst/>
            <a:rect l="l" t="t" r="r" b="b"/>
            <a:pathLst>
              <a:path w="914400" h="228600">
                <a:moveTo>
                  <a:pt x="0" y="228600"/>
                </a:moveTo>
                <a:lnTo>
                  <a:pt x="57150" y="0"/>
                </a:lnTo>
                <a:lnTo>
                  <a:pt x="857250" y="0"/>
                </a:lnTo>
                <a:lnTo>
                  <a:pt x="914400" y="228600"/>
                </a:lnTo>
                <a:lnTo>
                  <a:pt x="0" y="2286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5"/>
          <p:cNvSpPr/>
          <p:nvPr/>
        </p:nvSpPr>
        <p:spPr>
          <a:xfrm>
            <a:off x="304920" y="6095880"/>
            <a:ext cx="293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blic Domain: Image generated by CNEU Staff for free 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Ox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as a mask to prevent doping in unwanted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used in patterning of wafers.  Its chemical resistance provides a strong barrier for etching/depositing/etc.  patterns in a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 thickness ~4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,2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Å, but it depends on the dop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d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stress for 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kness is kept very th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Ox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5724720" y="518148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43"/>
          <p:cNvGrpSpPr/>
          <p:nvPr/>
        </p:nvGrpSpPr>
        <p:grpSpPr>
          <a:xfrm>
            <a:off x="457200" y="2971440"/>
            <a:ext cx="3660840" cy="2061000"/>
            <a:chOff x="457200" y="2971440"/>
            <a:chExt cx="3660840" cy="2061000"/>
          </a:xfrm>
        </p:grpSpPr>
        <p:grpSp>
          <p:nvGrpSpPr>
            <p:cNvPr id="238" name="Group 5"/>
            <p:cNvGrpSpPr/>
            <p:nvPr/>
          </p:nvGrpSpPr>
          <p:grpSpPr>
            <a:xfrm>
              <a:off x="457200" y="3679200"/>
              <a:ext cx="3660840" cy="1353240"/>
              <a:chOff x="457200" y="3679200"/>
              <a:chExt cx="3660840" cy="1353240"/>
            </a:xfrm>
          </p:grpSpPr>
          <p:sp>
            <p:nvSpPr>
              <p:cNvPr id="239" name="Rectangle 15"/>
              <p:cNvSpPr/>
              <p:nvPr/>
            </p:nvSpPr>
            <p:spPr>
              <a:xfrm>
                <a:off x="460080" y="4041360"/>
                <a:ext cx="3657960" cy="991080"/>
              </a:xfrm>
              <a:prstGeom prst="rect">
                <a:avLst/>
              </a:prstGeom>
              <a:solidFill>
                <a:srgbClr val="2222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+ Si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eft Bracket 7"/>
              <p:cNvSpPr/>
              <p:nvPr/>
            </p:nvSpPr>
            <p:spPr>
              <a:xfrm rot="16200000">
                <a:off x="1481040" y="3664800"/>
                <a:ext cx="158760" cy="873000"/>
              </a:xfrm>
              <a:custGeom>
                <a:avLst/>
                <a:gdLst>
                  <a:gd name="textAreaLeft" fmla="*/ 46440 w 158760"/>
                  <a:gd name="textAreaRight" fmla="*/ 159120 w 158760"/>
                  <a:gd name="textAreaTop" fmla="*/ 46440 h 873000"/>
                  <a:gd name="textAreaBottom" fmla="*/ 826560 h 87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1155"/>
                      <a:pt x="0" y="2309"/>
                    </a:cubicBezTo>
                    <a:lnTo>
                      <a:pt x="0" y="19291"/>
                    </a:lnTo>
                    <a:cubicBezTo>
                      <a:pt x="0" y="20446"/>
                      <a:pt x="10800" y="21600"/>
                      <a:pt x="21600" y="21600"/>
                    </a:cubicBezTo>
                  </a:path>
                </a:pathLst>
              </a:custGeom>
              <a:solidFill>
                <a:srgbClr val="ffc000"/>
              </a:solidFill>
              <a:ln w="9360">
                <a:solidFill>
                  <a:srgbClr val="b6dcd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eft Bracket 8"/>
              <p:cNvSpPr/>
              <p:nvPr/>
            </p:nvSpPr>
            <p:spPr>
              <a:xfrm rot="16200000">
                <a:off x="2919240" y="3674160"/>
                <a:ext cx="158760" cy="873000"/>
              </a:xfrm>
              <a:custGeom>
                <a:avLst/>
                <a:gdLst>
                  <a:gd name="textAreaLeft" fmla="*/ 46440 w 158760"/>
                  <a:gd name="textAreaRight" fmla="*/ 159120 w 158760"/>
                  <a:gd name="textAreaTop" fmla="*/ 46440 h 873000"/>
                  <a:gd name="textAreaBottom" fmla="*/ 826560 h 87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1155"/>
                      <a:pt x="0" y="2309"/>
                    </a:cubicBezTo>
                    <a:lnTo>
                      <a:pt x="0" y="19291"/>
                    </a:lnTo>
                    <a:cubicBezTo>
                      <a:pt x="0" y="20446"/>
                      <a:pt x="10800" y="21600"/>
                      <a:pt x="21600" y="21600"/>
                    </a:cubicBezTo>
                  </a:path>
                </a:pathLst>
              </a:custGeom>
              <a:solidFill>
                <a:srgbClr val="ffc000"/>
              </a:solidFill>
              <a:ln w="9360">
                <a:solidFill>
                  <a:srgbClr val="b6dcd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lowchart: Delay 9"/>
              <p:cNvSpPr/>
              <p:nvPr/>
            </p:nvSpPr>
            <p:spPr>
              <a:xfrm>
                <a:off x="457200" y="3877560"/>
                <a:ext cx="685800" cy="228600"/>
              </a:xfrm>
              <a:prstGeom prst="flowChartDelay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lowchart: Delay 10"/>
              <p:cNvSpPr/>
              <p:nvPr/>
            </p:nvSpPr>
            <p:spPr>
              <a:xfrm rot="10800000">
                <a:off x="3428640" y="3888360"/>
                <a:ext cx="685800" cy="228600"/>
              </a:xfrm>
              <a:prstGeom prst="flowChartDelay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rapezoid 11"/>
              <p:cNvSpPr/>
              <p:nvPr/>
            </p:nvSpPr>
            <p:spPr>
              <a:xfrm>
                <a:off x="1994040" y="3679200"/>
                <a:ext cx="566640" cy="365400"/>
              </a:xfrm>
              <a:custGeom>
                <a:avLst/>
                <a:gdLst/>
                <a:ahLst/>
                <a:rect l="l" t="t" r="r" b="b"/>
                <a:pathLst>
                  <a:path w="566718" h="365125">
                    <a:moveTo>
                      <a:pt x="0" y="365125"/>
                    </a:moveTo>
                    <a:lnTo>
                      <a:pt x="44545" y="0"/>
                    </a:lnTo>
                    <a:lnTo>
                      <a:pt x="522173" y="0"/>
                    </a:lnTo>
                    <a:lnTo>
                      <a:pt x="566718" y="365125"/>
                    </a:lnTo>
                    <a:lnTo>
                      <a:pt x="0" y="365125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45" name="Straight Arrow Connector 18"/>
            <p:cNvCxnSpPr/>
            <p:nvPr/>
          </p:nvCxnSpPr>
          <p:spPr>
            <a:xfrm flipH="1">
              <a:off x="990000" y="3200040"/>
              <a:ext cx="2160" cy="686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46" name="Straight Arrow Connector 19"/>
            <p:cNvCxnSpPr/>
            <p:nvPr/>
          </p:nvCxnSpPr>
          <p:spPr>
            <a:xfrm flipH="1">
              <a:off x="1142640" y="3276000"/>
              <a:ext cx="2160" cy="686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47" name="Straight Arrow Connector 20"/>
            <p:cNvCxnSpPr/>
            <p:nvPr/>
          </p:nvCxnSpPr>
          <p:spPr>
            <a:xfrm flipH="1">
              <a:off x="1294920" y="3504600"/>
              <a:ext cx="2160" cy="686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48" name="Straight Arrow Connector 21"/>
            <p:cNvCxnSpPr/>
            <p:nvPr/>
          </p:nvCxnSpPr>
          <p:spPr>
            <a:xfrm flipH="1">
              <a:off x="1447200" y="3504600"/>
              <a:ext cx="2160" cy="686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49" name="Straight Arrow Connector 22"/>
            <p:cNvCxnSpPr/>
            <p:nvPr/>
          </p:nvCxnSpPr>
          <p:spPr>
            <a:xfrm flipH="1">
              <a:off x="1599840" y="3504600"/>
              <a:ext cx="2160" cy="686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50" name="Straight Arrow Connector 23"/>
            <p:cNvCxnSpPr/>
            <p:nvPr/>
          </p:nvCxnSpPr>
          <p:spPr>
            <a:xfrm flipH="1">
              <a:off x="1752120" y="3504600"/>
              <a:ext cx="2160" cy="686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51" name="Straight Arrow Connector 24"/>
            <p:cNvCxnSpPr/>
            <p:nvPr/>
          </p:nvCxnSpPr>
          <p:spPr>
            <a:xfrm flipH="1">
              <a:off x="1904760" y="3504600"/>
              <a:ext cx="2160" cy="686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52" name="Straight Arrow Connector 25"/>
            <p:cNvCxnSpPr/>
            <p:nvPr/>
          </p:nvCxnSpPr>
          <p:spPr>
            <a:xfrm flipH="1">
              <a:off x="2057040" y="2971440"/>
              <a:ext cx="2160" cy="686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53" name="Straight Arrow Connector 26"/>
            <p:cNvCxnSpPr/>
            <p:nvPr/>
          </p:nvCxnSpPr>
          <p:spPr>
            <a:xfrm flipH="1">
              <a:off x="2209320" y="2971440"/>
              <a:ext cx="2160" cy="686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54" name="Straight Arrow Connector 27"/>
            <p:cNvCxnSpPr/>
            <p:nvPr/>
          </p:nvCxnSpPr>
          <p:spPr>
            <a:xfrm flipH="1">
              <a:off x="2361960" y="2971440"/>
              <a:ext cx="2160" cy="686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55" name="Straight Arrow Connector 28"/>
            <p:cNvCxnSpPr/>
            <p:nvPr/>
          </p:nvCxnSpPr>
          <p:spPr>
            <a:xfrm flipH="1">
              <a:off x="2514240" y="2971440"/>
              <a:ext cx="2160" cy="686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56" name="Straight Arrow Connector 29"/>
            <p:cNvCxnSpPr/>
            <p:nvPr/>
          </p:nvCxnSpPr>
          <p:spPr>
            <a:xfrm flipH="1">
              <a:off x="2666880" y="3506400"/>
              <a:ext cx="2160" cy="686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57" name="Straight Arrow Connector 30"/>
            <p:cNvCxnSpPr/>
            <p:nvPr/>
          </p:nvCxnSpPr>
          <p:spPr>
            <a:xfrm flipH="1">
              <a:off x="2819160" y="3504600"/>
              <a:ext cx="2160" cy="686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58" name="Straight Arrow Connector 31"/>
            <p:cNvCxnSpPr/>
            <p:nvPr/>
          </p:nvCxnSpPr>
          <p:spPr>
            <a:xfrm flipH="1">
              <a:off x="2971440" y="3504600"/>
              <a:ext cx="2160" cy="686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59" name="Straight Arrow Connector 32"/>
            <p:cNvCxnSpPr/>
            <p:nvPr/>
          </p:nvCxnSpPr>
          <p:spPr>
            <a:xfrm flipH="1">
              <a:off x="3124080" y="3504600"/>
              <a:ext cx="2160" cy="686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60" name="Straight Arrow Connector 33"/>
            <p:cNvCxnSpPr/>
            <p:nvPr/>
          </p:nvCxnSpPr>
          <p:spPr>
            <a:xfrm flipH="1">
              <a:off x="3276360" y="3504600"/>
              <a:ext cx="2160" cy="686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61" name="Straight Arrow Connector 34"/>
            <p:cNvCxnSpPr/>
            <p:nvPr/>
          </p:nvCxnSpPr>
          <p:spPr>
            <a:xfrm flipH="1">
              <a:off x="3428640" y="3276000"/>
              <a:ext cx="2160" cy="686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62" name="Straight Arrow Connector 35"/>
            <p:cNvCxnSpPr/>
            <p:nvPr/>
          </p:nvCxnSpPr>
          <p:spPr>
            <a:xfrm flipH="1">
              <a:off x="3581280" y="3200040"/>
              <a:ext cx="2160" cy="686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63" name="Straight Arrow Connector 36"/>
            <p:cNvCxnSpPr/>
            <p:nvPr/>
          </p:nvCxnSpPr>
          <p:spPr>
            <a:xfrm flipH="1">
              <a:off x="3733560" y="3200040"/>
              <a:ext cx="2160" cy="686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64" name="Straight Arrow Connector 37"/>
            <p:cNvCxnSpPr/>
            <p:nvPr/>
          </p:nvCxnSpPr>
          <p:spPr>
            <a:xfrm flipH="1">
              <a:off x="3886200" y="3200040"/>
              <a:ext cx="2160" cy="686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65" name="Straight Arrow Connector 38"/>
            <p:cNvCxnSpPr/>
            <p:nvPr/>
          </p:nvCxnSpPr>
          <p:spPr>
            <a:xfrm flipH="1">
              <a:off x="4038480" y="3200040"/>
              <a:ext cx="2160" cy="686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66" name="Straight Arrow Connector 39"/>
            <p:cNvCxnSpPr/>
            <p:nvPr/>
          </p:nvCxnSpPr>
          <p:spPr>
            <a:xfrm flipH="1">
              <a:off x="837720" y="3200040"/>
              <a:ext cx="2160" cy="686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67" name="Straight Arrow Connector 40"/>
            <p:cNvCxnSpPr/>
            <p:nvPr/>
          </p:nvCxnSpPr>
          <p:spPr>
            <a:xfrm flipH="1">
              <a:off x="685440" y="3200040"/>
              <a:ext cx="2160" cy="686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68" name="Straight Arrow Connector 41"/>
            <p:cNvCxnSpPr/>
            <p:nvPr/>
          </p:nvCxnSpPr>
          <p:spPr>
            <a:xfrm flipH="1">
              <a:off x="532800" y="3200040"/>
              <a:ext cx="2160" cy="686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</p:grpSp>
      <p:sp>
        <p:nvSpPr>
          <p:cNvPr id="269" name="TextBox 42"/>
          <p:cNvSpPr/>
          <p:nvPr/>
        </p:nvSpPr>
        <p:spPr>
          <a:xfrm>
            <a:off x="765360" y="5181480"/>
            <a:ext cx="30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pant Barrier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Block Arc 64"/>
          <p:cNvSpPr/>
          <p:nvPr/>
        </p:nvSpPr>
        <p:spPr>
          <a:xfrm>
            <a:off x="5985000" y="2530440"/>
            <a:ext cx="1295280" cy="990720"/>
          </a:xfrm>
          <a:custGeom>
            <a:avLst/>
            <a:gdLst/>
            <a:ahLst/>
            <a:rect l="l" t="t" r="r" b="b"/>
            <a:pathLst>
              <a:path w="1295400" h="990600">
                <a:moveTo>
                  <a:pt x="0" y="495300"/>
                </a:moveTo>
                <a:cubicBezTo>
                  <a:pt x="0" y="221753"/>
                  <a:pt x="289985" y="0"/>
                  <a:pt x="647700" y="0"/>
                </a:cubicBezTo>
                <a:cubicBezTo>
                  <a:pt x="1005415" y="0"/>
                  <a:pt x="1295400" y="221753"/>
                  <a:pt x="1295400" y="495300"/>
                </a:cubicBezTo>
                <a:lnTo>
                  <a:pt x="1078231" y="495300"/>
                </a:lnTo>
                <a:cubicBezTo>
                  <a:pt x="1078231" y="341692"/>
                  <a:pt x="885476" y="217169"/>
                  <a:pt x="647700" y="217169"/>
                </a:cubicBezTo>
                <a:cubicBezTo>
                  <a:pt x="409924" y="217169"/>
                  <a:pt x="217169" y="341692"/>
                  <a:pt x="217169" y="495300"/>
                </a:cubicBezTo>
                <a:lnTo>
                  <a:pt x="0" y="4953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66"/>
          <p:cNvSpPr/>
          <p:nvPr/>
        </p:nvSpPr>
        <p:spPr>
          <a:xfrm>
            <a:off x="4724280" y="3048120"/>
            <a:ext cx="3652920" cy="728640"/>
          </a:xfrm>
          <a:custGeom>
            <a:avLst/>
            <a:gdLst/>
            <a:ahLst/>
            <a:rect l="l" t="t" r="r" b="b"/>
            <a:pathLst>
              <a:path w="3652838" h="728663">
                <a:moveTo>
                  <a:pt x="1552575" y="723900"/>
                </a:moveTo>
                <a:lnTo>
                  <a:pt x="0" y="728663"/>
                </a:lnTo>
                <a:cubicBezTo>
                  <a:pt x="1588" y="630238"/>
                  <a:pt x="3175" y="531813"/>
                  <a:pt x="4763" y="433388"/>
                </a:cubicBezTo>
                <a:lnTo>
                  <a:pt x="1119188" y="447675"/>
                </a:lnTo>
                <a:lnTo>
                  <a:pt x="1233488" y="419100"/>
                </a:lnTo>
                <a:lnTo>
                  <a:pt x="1328738" y="357188"/>
                </a:lnTo>
                <a:lnTo>
                  <a:pt x="1376363" y="304800"/>
                </a:lnTo>
                <a:lnTo>
                  <a:pt x="1404938" y="257175"/>
                </a:lnTo>
                <a:lnTo>
                  <a:pt x="1433513" y="180975"/>
                </a:lnTo>
                <a:lnTo>
                  <a:pt x="1462088" y="128588"/>
                </a:lnTo>
                <a:lnTo>
                  <a:pt x="1524000" y="80963"/>
                </a:lnTo>
                <a:lnTo>
                  <a:pt x="1604963" y="42863"/>
                </a:lnTo>
                <a:lnTo>
                  <a:pt x="1704975" y="14288"/>
                </a:lnTo>
                <a:lnTo>
                  <a:pt x="1804988" y="0"/>
                </a:lnTo>
                <a:lnTo>
                  <a:pt x="1900238" y="4763"/>
                </a:lnTo>
                <a:lnTo>
                  <a:pt x="1981200" y="19050"/>
                </a:lnTo>
                <a:lnTo>
                  <a:pt x="2071688" y="52388"/>
                </a:lnTo>
                <a:lnTo>
                  <a:pt x="2133600" y="90488"/>
                </a:lnTo>
                <a:lnTo>
                  <a:pt x="2195513" y="142875"/>
                </a:lnTo>
                <a:lnTo>
                  <a:pt x="2224088" y="190500"/>
                </a:lnTo>
                <a:lnTo>
                  <a:pt x="2247900" y="252413"/>
                </a:lnTo>
                <a:lnTo>
                  <a:pt x="2295525" y="319088"/>
                </a:lnTo>
                <a:lnTo>
                  <a:pt x="2338388" y="357188"/>
                </a:lnTo>
                <a:lnTo>
                  <a:pt x="2409825" y="409575"/>
                </a:lnTo>
                <a:lnTo>
                  <a:pt x="2466975" y="428625"/>
                </a:lnTo>
                <a:lnTo>
                  <a:pt x="2586038" y="438150"/>
                </a:lnTo>
                <a:lnTo>
                  <a:pt x="3648075" y="438150"/>
                </a:lnTo>
                <a:cubicBezTo>
                  <a:pt x="3649663" y="534988"/>
                  <a:pt x="3651250" y="631825"/>
                  <a:pt x="3652838" y="728663"/>
                </a:cubicBezTo>
                <a:lnTo>
                  <a:pt x="1552575" y="7239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8"/>
          <p:cNvSpPr/>
          <p:nvPr/>
        </p:nvSpPr>
        <p:spPr>
          <a:xfrm>
            <a:off x="4572000" y="2895480"/>
            <a:ext cx="19051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65"/>
          <p:cNvSpPr/>
          <p:nvPr/>
        </p:nvSpPr>
        <p:spPr>
          <a:xfrm>
            <a:off x="4724280" y="3352680"/>
            <a:ext cx="3652920" cy="728640"/>
          </a:xfrm>
          <a:custGeom>
            <a:avLst/>
            <a:gdLst/>
            <a:ahLst/>
            <a:rect l="l" t="t" r="r" b="b"/>
            <a:pathLst>
              <a:path w="3652838" h="728663">
                <a:moveTo>
                  <a:pt x="1552575" y="723900"/>
                </a:moveTo>
                <a:lnTo>
                  <a:pt x="0" y="728663"/>
                </a:lnTo>
                <a:cubicBezTo>
                  <a:pt x="1588" y="630238"/>
                  <a:pt x="3175" y="531813"/>
                  <a:pt x="4763" y="433388"/>
                </a:cubicBezTo>
                <a:lnTo>
                  <a:pt x="1119188" y="447675"/>
                </a:lnTo>
                <a:lnTo>
                  <a:pt x="1233488" y="419100"/>
                </a:lnTo>
                <a:lnTo>
                  <a:pt x="1328738" y="357188"/>
                </a:lnTo>
                <a:lnTo>
                  <a:pt x="1376363" y="304800"/>
                </a:lnTo>
                <a:lnTo>
                  <a:pt x="1404938" y="257175"/>
                </a:lnTo>
                <a:lnTo>
                  <a:pt x="1433513" y="180975"/>
                </a:lnTo>
                <a:lnTo>
                  <a:pt x="1462088" y="128588"/>
                </a:lnTo>
                <a:lnTo>
                  <a:pt x="1524000" y="80963"/>
                </a:lnTo>
                <a:lnTo>
                  <a:pt x="1604963" y="42863"/>
                </a:lnTo>
                <a:lnTo>
                  <a:pt x="1704975" y="14288"/>
                </a:lnTo>
                <a:lnTo>
                  <a:pt x="1804988" y="0"/>
                </a:lnTo>
                <a:lnTo>
                  <a:pt x="1900238" y="4763"/>
                </a:lnTo>
                <a:lnTo>
                  <a:pt x="1981200" y="19050"/>
                </a:lnTo>
                <a:lnTo>
                  <a:pt x="2071688" y="52388"/>
                </a:lnTo>
                <a:lnTo>
                  <a:pt x="2133600" y="90488"/>
                </a:lnTo>
                <a:lnTo>
                  <a:pt x="2195513" y="142875"/>
                </a:lnTo>
                <a:lnTo>
                  <a:pt x="2224088" y="190500"/>
                </a:lnTo>
                <a:lnTo>
                  <a:pt x="2247900" y="252413"/>
                </a:lnTo>
                <a:lnTo>
                  <a:pt x="2295525" y="319088"/>
                </a:lnTo>
                <a:lnTo>
                  <a:pt x="2338388" y="357188"/>
                </a:lnTo>
                <a:lnTo>
                  <a:pt x="2409825" y="409575"/>
                </a:lnTo>
                <a:lnTo>
                  <a:pt x="2466975" y="428625"/>
                </a:lnTo>
                <a:lnTo>
                  <a:pt x="2586038" y="438150"/>
                </a:lnTo>
                <a:lnTo>
                  <a:pt x="3648075" y="438150"/>
                </a:lnTo>
                <a:cubicBezTo>
                  <a:pt x="3649663" y="534988"/>
                  <a:pt x="3651250" y="631825"/>
                  <a:pt x="3652838" y="728663"/>
                </a:cubicBezTo>
                <a:lnTo>
                  <a:pt x="1552575" y="7239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69"/>
          <p:cNvSpPr/>
          <p:nvPr/>
        </p:nvSpPr>
        <p:spPr>
          <a:xfrm>
            <a:off x="4729320" y="3351240"/>
            <a:ext cx="3643200" cy="466560"/>
          </a:xfrm>
          <a:custGeom>
            <a:avLst/>
            <a:gdLst/>
            <a:ahLst/>
            <a:rect l="l" t="t" r="r" b="b"/>
            <a:pathLst>
              <a:path w="3643312" h="465931">
                <a:moveTo>
                  <a:pt x="0" y="434975"/>
                </a:moveTo>
                <a:lnTo>
                  <a:pt x="800100" y="444500"/>
                </a:lnTo>
                <a:cubicBezTo>
                  <a:pt x="988219" y="446881"/>
                  <a:pt x="1038224" y="465931"/>
                  <a:pt x="1128712" y="449262"/>
                </a:cubicBezTo>
                <a:cubicBezTo>
                  <a:pt x="1219200" y="432593"/>
                  <a:pt x="1293813" y="387350"/>
                  <a:pt x="1343025" y="344487"/>
                </a:cubicBezTo>
                <a:cubicBezTo>
                  <a:pt x="1392238" y="301625"/>
                  <a:pt x="1405731" y="225424"/>
                  <a:pt x="1423987" y="192087"/>
                </a:cubicBezTo>
                <a:cubicBezTo>
                  <a:pt x="1442243" y="158750"/>
                  <a:pt x="1438275" y="161924"/>
                  <a:pt x="1452562" y="144462"/>
                </a:cubicBezTo>
                <a:cubicBezTo>
                  <a:pt x="1466849" y="127000"/>
                  <a:pt x="1477168" y="107156"/>
                  <a:pt x="1509712" y="87312"/>
                </a:cubicBezTo>
                <a:cubicBezTo>
                  <a:pt x="1542256" y="67468"/>
                  <a:pt x="1597025" y="39687"/>
                  <a:pt x="1647825" y="25400"/>
                </a:cubicBezTo>
                <a:cubicBezTo>
                  <a:pt x="1698625" y="11113"/>
                  <a:pt x="1762125" y="3174"/>
                  <a:pt x="1814512" y="1587"/>
                </a:cubicBezTo>
                <a:cubicBezTo>
                  <a:pt x="1866899" y="0"/>
                  <a:pt x="1916906" y="4763"/>
                  <a:pt x="1962150" y="15875"/>
                </a:cubicBezTo>
                <a:cubicBezTo>
                  <a:pt x="2007394" y="26988"/>
                  <a:pt x="2049463" y="48418"/>
                  <a:pt x="2085975" y="68262"/>
                </a:cubicBezTo>
                <a:cubicBezTo>
                  <a:pt x="2122487" y="88106"/>
                  <a:pt x="2155825" y="107156"/>
                  <a:pt x="2181225" y="134937"/>
                </a:cubicBezTo>
                <a:cubicBezTo>
                  <a:pt x="2206625" y="162718"/>
                  <a:pt x="2222500" y="206375"/>
                  <a:pt x="2238375" y="234950"/>
                </a:cubicBezTo>
                <a:cubicBezTo>
                  <a:pt x="2254250" y="263525"/>
                  <a:pt x="2255838" y="282575"/>
                  <a:pt x="2276475" y="306387"/>
                </a:cubicBezTo>
                <a:cubicBezTo>
                  <a:pt x="2297112" y="330199"/>
                  <a:pt x="2338388" y="360363"/>
                  <a:pt x="2362200" y="377825"/>
                </a:cubicBezTo>
                <a:cubicBezTo>
                  <a:pt x="2386012" y="395287"/>
                  <a:pt x="2393950" y="401637"/>
                  <a:pt x="2419350" y="411162"/>
                </a:cubicBezTo>
                <a:cubicBezTo>
                  <a:pt x="2444750" y="420687"/>
                  <a:pt x="2455069" y="430213"/>
                  <a:pt x="2514600" y="434975"/>
                </a:cubicBezTo>
                <a:cubicBezTo>
                  <a:pt x="2574131" y="439737"/>
                  <a:pt x="2776537" y="439737"/>
                  <a:pt x="2776537" y="439737"/>
                </a:cubicBezTo>
                <a:lnTo>
                  <a:pt x="3643312" y="444500"/>
                </a:ln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70"/>
          <p:cNvSpPr/>
          <p:nvPr/>
        </p:nvSpPr>
        <p:spPr>
          <a:xfrm>
            <a:off x="4884840" y="26668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d 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Straight Arrow Connector 72"/>
          <p:cNvCxnSpPr/>
          <p:nvPr/>
        </p:nvCxnSpPr>
        <p:spPr>
          <a:xfrm>
            <a:off x="5718240" y="2975040"/>
            <a:ext cx="427680" cy="48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7" name="TextBox 73"/>
          <p:cNvSpPr/>
          <p:nvPr/>
        </p:nvSpPr>
        <p:spPr>
          <a:xfrm>
            <a:off x="471600" y="251460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pant Barrier 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Straight Arrow Connector 75"/>
          <p:cNvCxnSpPr>
            <a:stCxn id="277" idx="2"/>
          </p:cNvCxnSpPr>
          <p:nvPr/>
        </p:nvCxnSpPr>
        <p:spPr>
          <a:xfrm>
            <a:off x="1633680" y="2883960"/>
            <a:ext cx="576360" cy="100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9" name="Straight Arrow Connector 76"/>
          <p:cNvCxnSpPr>
            <a:stCxn id="277" idx="2"/>
          </p:cNvCxnSpPr>
          <p:nvPr/>
        </p:nvCxnSpPr>
        <p:spPr>
          <a:xfrm flipH="1">
            <a:off x="914040" y="2883960"/>
            <a:ext cx="720000" cy="1078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280" name="Group 26"/>
          <p:cNvGrpSpPr/>
          <p:nvPr/>
        </p:nvGrpSpPr>
        <p:grpSpPr>
          <a:xfrm>
            <a:off x="4724280" y="3657600"/>
            <a:ext cx="3660840" cy="1432080"/>
            <a:chOff x="4724280" y="3657600"/>
            <a:chExt cx="3660840" cy="1432080"/>
          </a:xfrm>
        </p:grpSpPr>
        <p:grpSp>
          <p:nvGrpSpPr>
            <p:cNvPr id="281" name="Group 9"/>
            <p:cNvGrpSpPr/>
            <p:nvPr/>
          </p:nvGrpSpPr>
          <p:grpSpPr>
            <a:xfrm>
              <a:off x="4724280" y="4023000"/>
              <a:ext cx="3660840" cy="1066680"/>
              <a:chOff x="4724280" y="4023000"/>
              <a:chExt cx="3660840" cy="1066680"/>
            </a:xfrm>
          </p:grpSpPr>
          <p:sp>
            <p:nvSpPr>
              <p:cNvPr id="282" name="Rectangle 60"/>
              <p:cNvSpPr/>
              <p:nvPr/>
            </p:nvSpPr>
            <p:spPr>
              <a:xfrm>
                <a:off x="4724280" y="4023000"/>
                <a:ext cx="3657960" cy="759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59"/>
              <p:cNvSpPr/>
              <p:nvPr/>
            </p:nvSpPr>
            <p:spPr>
              <a:xfrm>
                <a:off x="4727160" y="4098960"/>
                <a:ext cx="3657960" cy="990720"/>
              </a:xfrm>
              <a:prstGeom prst="rect">
                <a:avLst/>
              </a:prstGeom>
              <a:solidFill>
                <a:srgbClr val="2222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+ Si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Left Bracket 51"/>
            <p:cNvSpPr/>
            <p:nvPr/>
          </p:nvSpPr>
          <p:spPr>
            <a:xfrm rot="16200000">
              <a:off x="5706720" y="3763800"/>
              <a:ext cx="241200" cy="873000"/>
            </a:xfrm>
            <a:custGeom>
              <a:avLst/>
              <a:gdLst>
                <a:gd name="textAreaLeft" fmla="*/ 70920 w 241200"/>
                <a:gd name="textAreaRight" fmla="*/ 241560 w 241200"/>
                <a:gd name="textAreaTop" fmla="*/ 70920 h 873000"/>
                <a:gd name="textAreaBottom" fmla="*/ 802080 h 87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56"/>
                    <a:pt x="0" y="3511"/>
                  </a:cubicBezTo>
                  <a:lnTo>
                    <a:pt x="0" y="18089"/>
                  </a:lnTo>
                  <a:cubicBezTo>
                    <a:pt x="0" y="19845"/>
                    <a:pt x="10800" y="21600"/>
                    <a:pt x="21600" y="21600"/>
                  </a:cubicBezTo>
                </a:path>
              </a:pathLst>
            </a:custGeom>
            <a:solidFill>
              <a:srgbClr val="ffc000"/>
            </a:solidFill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eft Bracket 52"/>
            <p:cNvSpPr/>
            <p:nvPr/>
          </p:nvSpPr>
          <p:spPr>
            <a:xfrm rot="16200000">
              <a:off x="7144920" y="3773160"/>
              <a:ext cx="241200" cy="873000"/>
            </a:xfrm>
            <a:custGeom>
              <a:avLst/>
              <a:gdLst>
                <a:gd name="textAreaLeft" fmla="*/ 70920 w 241200"/>
                <a:gd name="textAreaRight" fmla="*/ 241560 w 241200"/>
                <a:gd name="textAreaTop" fmla="*/ 70920 h 873000"/>
                <a:gd name="textAreaBottom" fmla="*/ 802080 h 87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56"/>
                    <a:pt x="0" y="3511"/>
                  </a:cubicBezTo>
                  <a:lnTo>
                    <a:pt x="0" y="18089"/>
                  </a:lnTo>
                  <a:cubicBezTo>
                    <a:pt x="0" y="19845"/>
                    <a:pt x="10800" y="21600"/>
                    <a:pt x="21600" y="21600"/>
                  </a:cubicBezTo>
                </a:path>
              </a:pathLst>
            </a:custGeom>
            <a:solidFill>
              <a:srgbClr val="ffc000"/>
            </a:solidFill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lowchart: Delay 53"/>
            <p:cNvSpPr/>
            <p:nvPr/>
          </p:nvSpPr>
          <p:spPr>
            <a:xfrm>
              <a:off x="4724280" y="3935160"/>
              <a:ext cx="685800" cy="228600"/>
            </a:xfrm>
            <a:prstGeom prst="flowChartDelay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lowchart: Delay 54"/>
            <p:cNvSpPr/>
            <p:nvPr/>
          </p:nvSpPr>
          <p:spPr>
            <a:xfrm rot="10800000">
              <a:off x="7695720" y="3945960"/>
              <a:ext cx="685800" cy="228600"/>
            </a:xfrm>
            <a:prstGeom prst="flowChartDelay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56"/>
            <p:cNvSpPr/>
            <p:nvPr/>
          </p:nvSpPr>
          <p:spPr>
            <a:xfrm>
              <a:off x="6220080" y="371844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57"/>
            <p:cNvSpPr/>
            <p:nvPr/>
          </p:nvSpPr>
          <p:spPr>
            <a:xfrm>
              <a:off x="6938280" y="402300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58"/>
            <p:cNvSpPr/>
            <p:nvPr/>
          </p:nvSpPr>
          <p:spPr>
            <a:xfrm>
              <a:off x="5415120" y="403848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rapezoid 55"/>
            <p:cNvSpPr/>
            <p:nvPr/>
          </p:nvSpPr>
          <p:spPr>
            <a:xfrm>
              <a:off x="6271920" y="3657600"/>
              <a:ext cx="573120" cy="365040"/>
            </a:xfrm>
            <a:custGeom>
              <a:avLst/>
              <a:gdLst/>
              <a:ahLst/>
              <a:rect l="l" t="t" r="r" b="b"/>
              <a:pathLst>
                <a:path w="573067" h="365287">
                  <a:moveTo>
                    <a:pt x="0" y="365287"/>
                  </a:moveTo>
                  <a:lnTo>
                    <a:pt x="44565" y="0"/>
                  </a:lnTo>
                  <a:lnTo>
                    <a:pt x="528502" y="0"/>
                  </a:lnTo>
                  <a:lnTo>
                    <a:pt x="573067" y="365287"/>
                  </a:lnTo>
                  <a:lnTo>
                    <a:pt x="0" y="365287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Box 15"/>
          <p:cNvSpPr/>
          <p:nvPr/>
        </p:nvSpPr>
        <p:spPr>
          <a:xfrm>
            <a:off x="304920" y="6095880"/>
            <a:ext cx="293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blic Domain: Image generated by CNEU Staff for free 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1"/>
          <p:cNvSpPr/>
          <p:nvPr/>
        </p:nvSpPr>
        <p:spPr>
          <a:xfrm>
            <a:off x="457200" y="1066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nit 4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xidation and Dielectric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ectur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ielectrics by Growth and De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Ox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ant Screen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prevent/minimize implant channeling and da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kness varies depending on implant dep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lating B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d between metal layers to prevent electrical sh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because of its insulating properties (does not conduct electri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ayer is deposited (as opposed to grown) and the required thickness v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Ox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4575600" y="502920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lating Barrier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37"/>
          <p:cNvGrpSpPr/>
          <p:nvPr/>
        </p:nvGrpSpPr>
        <p:grpSpPr>
          <a:xfrm>
            <a:off x="152280" y="3276720"/>
            <a:ext cx="3657600" cy="1600200"/>
            <a:chOff x="152280" y="3276720"/>
            <a:chExt cx="3657600" cy="1600200"/>
          </a:xfrm>
        </p:grpSpPr>
        <p:sp>
          <p:nvSpPr>
            <p:cNvPr id="298" name="Rectangle 5"/>
            <p:cNvSpPr/>
            <p:nvPr/>
          </p:nvSpPr>
          <p:spPr>
            <a:xfrm>
              <a:off x="152280" y="3886200"/>
              <a:ext cx="3657600" cy="990720"/>
            </a:xfrm>
            <a:prstGeom prst="rect">
              <a:avLst/>
            </a:prstGeom>
            <a:solidFill>
              <a:srgbClr val="222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6"/>
            <p:cNvSpPr/>
            <p:nvPr/>
          </p:nvSpPr>
          <p:spPr>
            <a:xfrm>
              <a:off x="1523880" y="3657600"/>
              <a:ext cx="2286000" cy="228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46"/>
            <p:cNvGrpSpPr/>
            <p:nvPr/>
          </p:nvGrpSpPr>
          <p:grpSpPr>
            <a:xfrm>
              <a:off x="227880" y="3276720"/>
              <a:ext cx="1221120" cy="991080"/>
              <a:chOff x="227880" y="3276720"/>
              <a:chExt cx="1221120" cy="991080"/>
            </a:xfrm>
          </p:grpSpPr>
          <p:cxnSp>
            <p:nvCxnSpPr>
              <p:cNvPr id="301" name="Straight Arrow Connector 7"/>
              <p:cNvCxnSpPr/>
              <p:nvPr/>
            </p:nvCxnSpPr>
            <p:spPr>
              <a:xfrm flipH="1">
                <a:off x="227880" y="3276720"/>
                <a:ext cx="2160" cy="9914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302" name="Straight Arrow Connector 8"/>
              <p:cNvCxnSpPr/>
              <p:nvPr/>
            </p:nvCxnSpPr>
            <p:spPr>
              <a:xfrm flipH="1">
                <a:off x="380160" y="3276720"/>
                <a:ext cx="2160" cy="9914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303" name="Straight Arrow Connector 9"/>
              <p:cNvCxnSpPr/>
              <p:nvPr/>
            </p:nvCxnSpPr>
            <p:spPr>
              <a:xfrm flipH="1">
                <a:off x="532440" y="3276720"/>
                <a:ext cx="2160" cy="9914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304" name="Straight Arrow Connector 10"/>
              <p:cNvCxnSpPr/>
              <p:nvPr/>
            </p:nvCxnSpPr>
            <p:spPr>
              <a:xfrm flipH="1">
                <a:off x="685080" y="3276720"/>
                <a:ext cx="2160" cy="9914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305" name="Straight Arrow Connector 11"/>
              <p:cNvCxnSpPr/>
              <p:nvPr/>
            </p:nvCxnSpPr>
            <p:spPr>
              <a:xfrm flipH="1">
                <a:off x="837360" y="3276720"/>
                <a:ext cx="2160" cy="9914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306" name="Straight Arrow Connector 12"/>
              <p:cNvCxnSpPr/>
              <p:nvPr/>
            </p:nvCxnSpPr>
            <p:spPr>
              <a:xfrm flipH="1">
                <a:off x="990000" y="3276720"/>
                <a:ext cx="2160" cy="9914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307" name="Straight Arrow Connector 13"/>
              <p:cNvCxnSpPr/>
              <p:nvPr/>
            </p:nvCxnSpPr>
            <p:spPr>
              <a:xfrm flipH="1">
                <a:off x="1142280" y="3276720"/>
                <a:ext cx="2160" cy="9914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308" name="Straight Arrow Connector 14"/>
              <p:cNvCxnSpPr/>
              <p:nvPr/>
            </p:nvCxnSpPr>
            <p:spPr>
              <a:xfrm flipH="1">
                <a:off x="1294920" y="3276720"/>
                <a:ext cx="2160" cy="9914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309" name="Straight Arrow Connector 15"/>
              <p:cNvCxnSpPr/>
              <p:nvPr/>
            </p:nvCxnSpPr>
            <p:spPr>
              <a:xfrm flipH="1">
                <a:off x="1447200" y="3276720"/>
                <a:ext cx="2160" cy="9914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10" name="Group 63"/>
            <p:cNvGrpSpPr/>
            <p:nvPr/>
          </p:nvGrpSpPr>
          <p:grpSpPr>
            <a:xfrm>
              <a:off x="1599840" y="3276720"/>
              <a:ext cx="2135520" cy="381240"/>
              <a:chOff x="1599840" y="3276720"/>
              <a:chExt cx="2135520" cy="381240"/>
            </a:xfrm>
          </p:grpSpPr>
          <p:cxnSp>
            <p:nvCxnSpPr>
              <p:cNvPr id="311" name="Straight Arrow Connector 16"/>
              <p:cNvCxnSpPr/>
              <p:nvPr/>
            </p:nvCxnSpPr>
            <p:spPr>
              <a:xfrm flipH="1">
                <a:off x="1599840" y="3276720"/>
                <a:ext cx="2160" cy="3816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</a:ln>
            </p:spPr>
          </p:cxnSp>
          <p:cxnSp>
            <p:nvCxnSpPr>
              <p:cNvPr id="312" name="Straight Arrow Connector 17"/>
              <p:cNvCxnSpPr/>
              <p:nvPr/>
            </p:nvCxnSpPr>
            <p:spPr>
              <a:xfrm flipH="1">
                <a:off x="1752120" y="3276720"/>
                <a:ext cx="2160" cy="3816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</a:ln>
            </p:spPr>
          </p:cxnSp>
          <p:cxnSp>
            <p:nvCxnSpPr>
              <p:cNvPr id="313" name="Straight Arrow Connector 18"/>
              <p:cNvCxnSpPr/>
              <p:nvPr/>
            </p:nvCxnSpPr>
            <p:spPr>
              <a:xfrm flipH="1">
                <a:off x="1904400" y="3276720"/>
                <a:ext cx="2160" cy="3816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</a:ln>
            </p:spPr>
          </p:cxnSp>
          <p:cxnSp>
            <p:nvCxnSpPr>
              <p:cNvPr id="314" name="Straight Arrow Connector 50"/>
              <p:cNvCxnSpPr/>
              <p:nvPr/>
            </p:nvCxnSpPr>
            <p:spPr>
              <a:xfrm flipH="1">
                <a:off x="2057040" y="3276720"/>
                <a:ext cx="2160" cy="3816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</a:ln>
            </p:spPr>
          </p:cxnSp>
          <p:cxnSp>
            <p:nvCxnSpPr>
              <p:cNvPr id="315" name="Straight Arrow Connector 51"/>
              <p:cNvCxnSpPr/>
              <p:nvPr/>
            </p:nvCxnSpPr>
            <p:spPr>
              <a:xfrm flipH="1">
                <a:off x="2209320" y="3276720"/>
                <a:ext cx="2160" cy="3816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</a:ln>
            </p:spPr>
          </p:cxnSp>
          <p:cxnSp>
            <p:nvCxnSpPr>
              <p:cNvPr id="316" name="Straight Arrow Connector 52"/>
              <p:cNvCxnSpPr/>
              <p:nvPr/>
            </p:nvCxnSpPr>
            <p:spPr>
              <a:xfrm flipH="1">
                <a:off x="2361600" y="3276720"/>
                <a:ext cx="2160" cy="3816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</a:ln>
            </p:spPr>
          </p:cxnSp>
          <p:cxnSp>
            <p:nvCxnSpPr>
              <p:cNvPr id="317" name="Straight Arrow Connector 53"/>
              <p:cNvCxnSpPr/>
              <p:nvPr/>
            </p:nvCxnSpPr>
            <p:spPr>
              <a:xfrm flipH="1">
                <a:off x="2514240" y="3276720"/>
                <a:ext cx="2160" cy="3816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</a:ln>
            </p:spPr>
          </p:cxnSp>
          <p:cxnSp>
            <p:nvCxnSpPr>
              <p:cNvPr id="318" name="Straight Arrow Connector 54"/>
              <p:cNvCxnSpPr/>
              <p:nvPr/>
            </p:nvCxnSpPr>
            <p:spPr>
              <a:xfrm flipH="1">
                <a:off x="2666520" y="3276720"/>
                <a:ext cx="2160" cy="3816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</a:ln>
            </p:spPr>
          </p:cxnSp>
          <p:cxnSp>
            <p:nvCxnSpPr>
              <p:cNvPr id="319" name="Straight Arrow Connector 55"/>
              <p:cNvCxnSpPr/>
              <p:nvPr/>
            </p:nvCxnSpPr>
            <p:spPr>
              <a:xfrm flipH="1">
                <a:off x="2819160" y="3276720"/>
                <a:ext cx="2160" cy="3816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</a:ln>
            </p:spPr>
          </p:cxnSp>
          <p:cxnSp>
            <p:nvCxnSpPr>
              <p:cNvPr id="320" name="Straight Arrow Connector 56"/>
              <p:cNvCxnSpPr/>
              <p:nvPr/>
            </p:nvCxnSpPr>
            <p:spPr>
              <a:xfrm flipH="1">
                <a:off x="3123720" y="3276720"/>
                <a:ext cx="2160" cy="3816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</a:ln>
            </p:spPr>
          </p:cxnSp>
          <p:cxnSp>
            <p:nvCxnSpPr>
              <p:cNvPr id="321" name="Straight Arrow Connector 57"/>
              <p:cNvCxnSpPr/>
              <p:nvPr/>
            </p:nvCxnSpPr>
            <p:spPr>
              <a:xfrm flipH="1">
                <a:off x="3276360" y="3276720"/>
                <a:ext cx="2160" cy="3816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</a:ln>
            </p:spPr>
          </p:cxnSp>
          <p:cxnSp>
            <p:nvCxnSpPr>
              <p:cNvPr id="322" name="Straight Arrow Connector 58"/>
              <p:cNvCxnSpPr/>
              <p:nvPr/>
            </p:nvCxnSpPr>
            <p:spPr>
              <a:xfrm flipH="1">
                <a:off x="2971440" y="3276720"/>
                <a:ext cx="2160" cy="3816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</a:ln>
            </p:spPr>
          </p:cxnSp>
          <p:cxnSp>
            <p:nvCxnSpPr>
              <p:cNvPr id="323" name="Straight Arrow Connector 59"/>
              <p:cNvCxnSpPr/>
              <p:nvPr/>
            </p:nvCxnSpPr>
            <p:spPr>
              <a:xfrm flipH="1">
                <a:off x="3428640" y="3276720"/>
                <a:ext cx="2160" cy="3816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</a:ln>
            </p:spPr>
          </p:cxnSp>
          <p:cxnSp>
            <p:nvCxnSpPr>
              <p:cNvPr id="324" name="Straight Arrow Connector 60"/>
              <p:cNvCxnSpPr/>
              <p:nvPr/>
            </p:nvCxnSpPr>
            <p:spPr>
              <a:xfrm flipH="1">
                <a:off x="3733560" y="3276720"/>
                <a:ext cx="2160" cy="3816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</a:ln>
            </p:spPr>
          </p:cxnSp>
          <p:cxnSp>
            <p:nvCxnSpPr>
              <p:cNvPr id="325" name="Straight Arrow Connector 62"/>
              <p:cNvCxnSpPr/>
              <p:nvPr/>
            </p:nvCxnSpPr>
            <p:spPr>
              <a:xfrm flipH="1">
                <a:off x="3581280" y="3276720"/>
                <a:ext cx="2160" cy="3816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</a:ln>
            </p:spPr>
          </p:cxnSp>
        </p:grpSp>
        <p:sp>
          <p:nvSpPr>
            <p:cNvPr id="326" name="Freeform 66"/>
            <p:cNvSpPr/>
            <p:nvPr/>
          </p:nvSpPr>
          <p:spPr>
            <a:xfrm>
              <a:off x="1584000" y="3660840"/>
              <a:ext cx="44280" cy="377640"/>
            </a:xfrm>
            <a:custGeom>
              <a:avLst/>
              <a:gdLst/>
              <a:ahLst/>
              <a:rect l="l" t="t" r="r" b="b"/>
              <a:pathLst>
                <a:path w="37116" h="311728">
                  <a:moveTo>
                    <a:pt x="16449" y="0"/>
                  </a:moveTo>
                  <a:cubicBezTo>
                    <a:pt x="14332" y="3175"/>
                    <a:pt x="11806" y="6112"/>
                    <a:pt x="10099" y="9525"/>
                  </a:cubicBezTo>
                  <a:cubicBezTo>
                    <a:pt x="1809" y="26105"/>
                    <a:pt x="7099" y="53927"/>
                    <a:pt x="10099" y="66675"/>
                  </a:cubicBezTo>
                  <a:cubicBezTo>
                    <a:pt x="10973" y="70389"/>
                    <a:pt x="16449" y="70908"/>
                    <a:pt x="19624" y="73025"/>
                  </a:cubicBezTo>
                  <a:cubicBezTo>
                    <a:pt x="35070" y="96194"/>
                    <a:pt x="37116" y="95152"/>
                    <a:pt x="22799" y="142875"/>
                  </a:cubicBezTo>
                  <a:cubicBezTo>
                    <a:pt x="21248" y="148044"/>
                    <a:pt x="12216" y="144992"/>
                    <a:pt x="6924" y="146050"/>
                  </a:cubicBezTo>
                  <a:cubicBezTo>
                    <a:pt x="8729" y="167713"/>
                    <a:pt x="0" y="183141"/>
                    <a:pt x="19624" y="190500"/>
                  </a:cubicBezTo>
                  <a:cubicBezTo>
                    <a:pt x="24677" y="192395"/>
                    <a:pt x="30207" y="192617"/>
                    <a:pt x="35499" y="193675"/>
                  </a:cubicBezTo>
                  <a:cubicBezTo>
                    <a:pt x="34441" y="211667"/>
                    <a:pt x="34655" y="229779"/>
                    <a:pt x="32324" y="247650"/>
                  </a:cubicBezTo>
                  <a:cubicBezTo>
                    <a:pt x="23966" y="311728"/>
                    <a:pt x="25974" y="223004"/>
                    <a:pt x="25974" y="28575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67"/>
            <p:cNvSpPr/>
            <p:nvPr/>
          </p:nvSpPr>
          <p:spPr>
            <a:xfrm>
              <a:off x="3124080" y="3657600"/>
              <a:ext cx="45720" cy="377640"/>
            </a:xfrm>
            <a:custGeom>
              <a:avLst/>
              <a:gdLst/>
              <a:ahLst/>
              <a:rect l="l" t="t" r="r" b="b"/>
              <a:pathLst>
                <a:path w="37116" h="311728">
                  <a:moveTo>
                    <a:pt x="16449" y="0"/>
                  </a:moveTo>
                  <a:cubicBezTo>
                    <a:pt x="14332" y="3175"/>
                    <a:pt x="11806" y="6112"/>
                    <a:pt x="10099" y="9525"/>
                  </a:cubicBezTo>
                  <a:cubicBezTo>
                    <a:pt x="1809" y="26105"/>
                    <a:pt x="7099" y="53927"/>
                    <a:pt x="10099" y="66675"/>
                  </a:cubicBezTo>
                  <a:cubicBezTo>
                    <a:pt x="10973" y="70389"/>
                    <a:pt x="16449" y="70908"/>
                    <a:pt x="19624" y="73025"/>
                  </a:cubicBezTo>
                  <a:cubicBezTo>
                    <a:pt x="35070" y="96194"/>
                    <a:pt x="37116" y="95152"/>
                    <a:pt x="22799" y="142875"/>
                  </a:cubicBezTo>
                  <a:cubicBezTo>
                    <a:pt x="21248" y="148044"/>
                    <a:pt x="12216" y="144992"/>
                    <a:pt x="6924" y="146050"/>
                  </a:cubicBezTo>
                  <a:cubicBezTo>
                    <a:pt x="8729" y="167713"/>
                    <a:pt x="0" y="183141"/>
                    <a:pt x="19624" y="190500"/>
                  </a:cubicBezTo>
                  <a:cubicBezTo>
                    <a:pt x="24677" y="192395"/>
                    <a:pt x="30207" y="192617"/>
                    <a:pt x="35499" y="193675"/>
                  </a:cubicBezTo>
                  <a:cubicBezTo>
                    <a:pt x="34441" y="211667"/>
                    <a:pt x="34655" y="229779"/>
                    <a:pt x="32324" y="247650"/>
                  </a:cubicBezTo>
                  <a:cubicBezTo>
                    <a:pt x="23966" y="311728"/>
                    <a:pt x="25974" y="223004"/>
                    <a:pt x="25974" y="28575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68"/>
            <p:cNvSpPr/>
            <p:nvPr/>
          </p:nvSpPr>
          <p:spPr>
            <a:xfrm>
              <a:off x="2340000" y="3660840"/>
              <a:ext cx="44280" cy="377640"/>
            </a:xfrm>
            <a:custGeom>
              <a:avLst/>
              <a:gdLst/>
              <a:ahLst/>
              <a:rect l="l" t="t" r="r" b="b"/>
              <a:pathLst>
                <a:path w="37116" h="311728">
                  <a:moveTo>
                    <a:pt x="16449" y="0"/>
                  </a:moveTo>
                  <a:cubicBezTo>
                    <a:pt x="14332" y="3175"/>
                    <a:pt x="11806" y="6112"/>
                    <a:pt x="10099" y="9525"/>
                  </a:cubicBezTo>
                  <a:cubicBezTo>
                    <a:pt x="1809" y="26105"/>
                    <a:pt x="7099" y="53927"/>
                    <a:pt x="10099" y="66675"/>
                  </a:cubicBezTo>
                  <a:cubicBezTo>
                    <a:pt x="10973" y="70389"/>
                    <a:pt x="16449" y="70908"/>
                    <a:pt x="19624" y="73025"/>
                  </a:cubicBezTo>
                  <a:cubicBezTo>
                    <a:pt x="35070" y="96194"/>
                    <a:pt x="37116" y="95152"/>
                    <a:pt x="22799" y="142875"/>
                  </a:cubicBezTo>
                  <a:cubicBezTo>
                    <a:pt x="21248" y="148044"/>
                    <a:pt x="12216" y="144992"/>
                    <a:pt x="6924" y="146050"/>
                  </a:cubicBezTo>
                  <a:cubicBezTo>
                    <a:pt x="8729" y="167713"/>
                    <a:pt x="0" y="183141"/>
                    <a:pt x="19624" y="190500"/>
                  </a:cubicBezTo>
                  <a:cubicBezTo>
                    <a:pt x="24677" y="192395"/>
                    <a:pt x="30207" y="192617"/>
                    <a:pt x="35499" y="193675"/>
                  </a:cubicBezTo>
                  <a:cubicBezTo>
                    <a:pt x="34441" y="211667"/>
                    <a:pt x="34655" y="229779"/>
                    <a:pt x="32324" y="247650"/>
                  </a:cubicBezTo>
                  <a:cubicBezTo>
                    <a:pt x="23966" y="311728"/>
                    <a:pt x="25974" y="223004"/>
                    <a:pt x="25974" y="28575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69"/>
            <p:cNvSpPr/>
            <p:nvPr/>
          </p:nvSpPr>
          <p:spPr>
            <a:xfrm>
              <a:off x="1689120" y="3660840"/>
              <a:ext cx="104760" cy="377640"/>
            </a:xfrm>
            <a:custGeom>
              <a:avLst/>
              <a:gdLst/>
              <a:ahLst/>
              <a:rect l="l" t="t" r="r" b="b"/>
              <a:pathLst>
                <a:path w="104789" h="301002">
                  <a:moveTo>
                    <a:pt x="66929" y="0"/>
                  </a:moveTo>
                  <a:cubicBezTo>
                    <a:pt x="60579" y="1058"/>
                    <a:pt x="54163" y="1778"/>
                    <a:pt x="47879" y="3175"/>
                  </a:cubicBezTo>
                  <a:cubicBezTo>
                    <a:pt x="44612" y="3901"/>
                    <a:pt x="40299" y="3627"/>
                    <a:pt x="38354" y="6350"/>
                  </a:cubicBezTo>
                  <a:cubicBezTo>
                    <a:pt x="34463" y="11797"/>
                    <a:pt x="38354" y="23283"/>
                    <a:pt x="32004" y="25400"/>
                  </a:cubicBezTo>
                  <a:cubicBezTo>
                    <a:pt x="18859" y="29782"/>
                    <a:pt x="25264" y="26719"/>
                    <a:pt x="12954" y="34925"/>
                  </a:cubicBezTo>
                  <a:cubicBezTo>
                    <a:pt x="5807" y="56367"/>
                    <a:pt x="14054" y="29973"/>
                    <a:pt x="6604" y="63500"/>
                  </a:cubicBezTo>
                  <a:cubicBezTo>
                    <a:pt x="5878" y="66767"/>
                    <a:pt x="4487" y="69850"/>
                    <a:pt x="3429" y="73025"/>
                  </a:cubicBezTo>
                  <a:cubicBezTo>
                    <a:pt x="4487" y="81492"/>
                    <a:pt x="0" y="93022"/>
                    <a:pt x="6604" y="98425"/>
                  </a:cubicBezTo>
                  <a:cubicBezTo>
                    <a:pt x="14836" y="105160"/>
                    <a:pt x="27800" y="100281"/>
                    <a:pt x="38354" y="101600"/>
                  </a:cubicBezTo>
                  <a:cubicBezTo>
                    <a:pt x="56235" y="103835"/>
                    <a:pt x="53621" y="103514"/>
                    <a:pt x="66929" y="107950"/>
                  </a:cubicBezTo>
                  <a:cubicBezTo>
                    <a:pt x="81356" y="151232"/>
                    <a:pt x="65593" y="98600"/>
                    <a:pt x="76454" y="174625"/>
                  </a:cubicBezTo>
                  <a:cubicBezTo>
                    <a:pt x="77401" y="181251"/>
                    <a:pt x="82804" y="193675"/>
                    <a:pt x="82804" y="193675"/>
                  </a:cubicBezTo>
                  <a:cubicBezTo>
                    <a:pt x="83862" y="208492"/>
                    <a:pt x="84571" y="223337"/>
                    <a:pt x="85979" y="238125"/>
                  </a:cubicBezTo>
                  <a:cubicBezTo>
                    <a:pt x="86689" y="245575"/>
                    <a:pt x="86468" y="253365"/>
                    <a:pt x="89154" y="260350"/>
                  </a:cubicBezTo>
                  <a:cubicBezTo>
                    <a:pt x="104789" y="301002"/>
                    <a:pt x="101854" y="259843"/>
                    <a:pt x="101854" y="295275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0"/>
            <p:cNvSpPr/>
            <p:nvPr/>
          </p:nvSpPr>
          <p:spPr>
            <a:xfrm>
              <a:off x="1900080" y="3657600"/>
              <a:ext cx="52200" cy="333360"/>
            </a:xfrm>
            <a:custGeom>
              <a:avLst/>
              <a:gdLst/>
              <a:ahLst/>
              <a:rect l="l" t="t" r="r" b="b"/>
              <a:pathLst>
                <a:path w="52538" h="333375">
                  <a:moveTo>
                    <a:pt x="1916" y="0"/>
                  </a:moveTo>
                  <a:cubicBezTo>
                    <a:pt x="2974" y="35983"/>
                    <a:pt x="0" y="72313"/>
                    <a:pt x="5091" y="107950"/>
                  </a:cubicBezTo>
                  <a:cubicBezTo>
                    <a:pt x="5708" y="112270"/>
                    <a:pt x="16780" y="106880"/>
                    <a:pt x="17791" y="111125"/>
                  </a:cubicBezTo>
                  <a:cubicBezTo>
                    <a:pt x="22700" y="131742"/>
                    <a:pt x="19130" y="153512"/>
                    <a:pt x="20966" y="174625"/>
                  </a:cubicBezTo>
                  <a:cubicBezTo>
                    <a:pt x="21256" y="177959"/>
                    <a:pt x="23329" y="180903"/>
                    <a:pt x="24141" y="184150"/>
                  </a:cubicBezTo>
                  <a:cubicBezTo>
                    <a:pt x="25450" y="189385"/>
                    <a:pt x="25421" y="194972"/>
                    <a:pt x="27316" y="200025"/>
                  </a:cubicBezTo>
                  <a:cubicBezTo>
                    <a:pt x="28656" y="203598"/>
                    <a:pt x="31549" y="206375"/>
                    <a:pt x="33666" y="209550"/>
                  </a:cubicBezTo>
                  <a:cubicBezTo>
                    <a:pt x="34724" y="216958"/>
                    <a:pt x="32875" y="225429"/>
                    <a:pt x="36841" y="231775"/>
                  </a:cubicBezTo>
                  <a:cubicBezTo>
                    <a:pt x="39154" y="235475"/>
                    <a:pt x="48924" y="230630"/>
                    <a:pt x="49541" y="234950"/>
                  </a:cubicBezTo>
                  <a:cubicBezTo>
                    <a:pt x="52538" y="255930"/>
                    <a:pt x="47049" y="277268"/>
                    <a:pt x="46366" y="298450"/>
                  </a:cubicBezTo>
                  <a:cubicBezTo>
                    <a:pt x="45991" y="310086"/>
                    <a:pt x="46366" y="321733"/>
                    <a:pt x="46366" y="333375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71"/>
            <p:cNvSpPr/>
            <p:nvPr/>
          </p:nvSpPr>
          <p:spPr>
            <a:xfrm>
              <a:off x="2014560" y="3654360"/>
              <a:ext cx="48960" cy="320400"/>
            </a:xfrm>
            <a:custGeom>
              <a:avLst/>
              <a:gdLst/>
              <a:ahLst/>
              <a:rect l="l" t="t" r="r" b="b"/>
              <a:pathLst>
                <a:path w="49305" h="320675">
                  <a:moveTo>
                    <a:pt x="43629" y="0"/>
                  </a:moveTo>
                  <a:cubicBezTo>
                    <a:pt x="42571" y="16933"/>
                    <a:pt x="46603" y="34987"/>
                    <a:pt x="40454" y="50800"/>
                  </a:cubicBezTo>
                  <a:cubicBezTo>
                    <a:pt x="38028" y="57038"/>
                    <a:pt x="26973" y="53437"/>
                    <a:pt x="21404" y="57150"/>
                  </a:cubicBezTo>
                  <a:lnTo>
                    <a:pt x="11879" y="63500"/>
                  </a:lnTo>
                  <a:cubicBezTo>
                    <a:pt x="10821" y="94192"/>
                    <a:pt x="10620" y="124925"/>
                    <a:pt x="8704" y="155575"/>
                  </a:cubicBezTo>
                  <a:cubicBezTo>
                    <a:pt x="6844" y="185329"/>
                    <a:pt x="0" y="137455"/>
                    <a:pt x="8704" y="180975"/>
                  </a:cubicBezTo>
                  <a:cubicBezTo>
                    <a:pt x="9336" y="194240"/>
                    <a:pt x="4" y="238950"/>
                    <a:pt x="18229" y="257175"/>
                  </a:cubicBezTo>
                  <a:cubicBezTo>
                    <a:pt x="20927" y="259873"/>
                    <a:pt x="24579" y="261408"/>
                    <a:pt x="27754" y="263525"/>
                  </a:cubicBezTo>
                  <a:cubicBezTo>
                    <a:pt x="29871" y="269875"/>
                    <a:pt x="32791" y="276011"/>
                    <a:pt x="34104" y="282575"/>
                  </a:cubicBezTo>
                  <a:cubicBezTo>
                    <a:pt x="35162" y="287867"/>
                    <a:pt x="34286" y="293960"/>
                    <a:pt x="37279" y="298450"/>
                  </a:cubicBezTo>
                  <a:cubicBezTo>
                    <a:pt x="39135" y="301235"/>
                    <a:pt x="45486" y="298549"/>
                    <a:pt x="46804" y="301625"/>
                  </a:cubicBezTo>
                  <a:cubicBezTo>
                    <a:pt x="49305" y="307462"/>
                    <a:pt x="46804" y="314325"/>
                    <a:pt x="46804" y="320675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73"/>
            <p:cNvSpPr/>
            <p:nvPr/>
          </p:nvSpPr>
          <p:spPr>
            <a:xfrm>
              <a:off x="2158920" y="3657600"/>
              <a:ext cx="79200" cy="323640"/>
            </a:xfrm>
            <a:custGeom>
              <a:avLst/>
              <a:gdLst/>
              <a:ahLst/>
              <a:rect l="l" t="t" r="r" b="b"/>
              <a:pathLst>
                <a:path w="79837" h="323850">
                  <a:moveTo>
                    <a:pt x="47725" y="0"/>
                  </a:moveTo>
                  <a:cubicBezTo>
                    <a:pt x="48648" y="11078"/>
                    <a:pt x="48704" y="36478"/>
                    <a:pt x="54075" y="50800"/>
                  </a:cubicBezTo>
                  <a:cubicBezTo>
                    <a:pt x="60484" y="67891"/>
                    <a:pt x="58927" y="59798"/>
                    <a:pt x="69950" y="73025"/>
                  </a:cubicBezTo>
                  <a:cubicBezTo>
                    <a:pt x="76789" y="81231"/>
                    <a:pt x="76293" y="82529"/>
                    <a:pt x="79475" y="92075"/>
                  </a:cubicBezTo>
                  <a:cubicBezTo>
                    <a:pt x="78417" y="104775"/>
                    <a:pt x="78395" y="117604"/>
                    <a:pt x="76300" y="130175"/>
                  </a:cubicBezTo>
                  <a:cubicBezTo>
                    <a:pt x="71526" y="158821"/>
                    <a:pt x="68762" y="149344"/>
                    <a:pt x="38200" y="152400"/>
                  </a:cubicBezTo>
                  <a:cubicBezTo>
                    <a:pt x="35025" y="153458"/>
                    <a:pt x="31968" y="154976"/>
                    <a:pt x="28675" y="155575"/>
                  </a:cubicBezTo>
                  <a:cubicBezTo>
                    <a:pt x="20280" y="157101"/>
                    <a:pt x="11072" y="155285"/>
                    <a:pt x="3275" y="158750"/>
                  </a:cubicBezTo>
                  <a:cubicBezTo>
                    <a:pt x="217" y="160109"/>
                    <a:pt x="1158" y="165100"/>
                    <a:pt x="100" y="168275"/>
                  </a:cubicBezTo>
                  <a:cubicBezTo>
                    <a:pt x="1158" y="177800"/>
                    <a:pt x="0" y="187843"/>
                    <a:pt x="3275" y="196850"/>
                  </a:cubicBezTo>
                  <a:cubicBezTo>
                    <a:pt x="4579" y="200436"/>
                    <a:pt x="9387" y="201493"/>
                    <a:pt x="12800" y="203200"/>
                  </a:cubicBezTo>
                  <a:cubicBezTo>
                    <a:pt x="19309" y="206454"/>
                    <a:pt x="32162" y="208342"/>
                    <a:pt x="38200" y="209550"/>
                  </a:cubicBezTo>
                  <a:cubicBezTo>
                    <a:pt x="39258" y="212725"/>
                    <a:pt x="41085" y="215741"/>
                    <a:pt x="41375" y="219075"/>
                  </a:cubicBezTo>
                  <a:cubicBezTo>
                    <a:pt x="43211" y="240188"/>
                    <a:pt x="40759" y="261724"/>
                    <a:pt x="44550" y="282575"/>
                  </a:cubicBezTo>
                  <a:cubicBezTo>
                    <a:pt x="45312" y="286769"/>
                    <a:pt x="60583" y="291238"/>
                    <a:pt x="63600" y="292100"/>
                  </a:cubicBezTo>
                  <a:cubicBezTo>
                    <a:pt x="67796" y="293299"/>
                    <a:pt x="74679" y="291223"/>
                    <a:pt x="76300" y="295275"/>
                  </a:cubicBezTo>
                  <a:cubicBezTo>
                    <a:pt x="79837" y="304119"/>
                    <a:pt x="76300" y="314325"/>
                    <a:pt x="76300" y="32385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4"/>
            <p:cNvSpPr/>
            <p:nvPr/>
          </p:nvSpPr>
          <p:spPr>
            <a:xfrm>
              <a:off x="2476440" y="3662280"/>
              <a:ext cx="99720" cy="361800"/>
            </a:xfrm>
            <a:custGeom>
              <a:avLst/>
              <a:gdLst/>
              <a:ahLst/>
              <a:rect l="l" t="t" r="r" b="b"/>
              <a:pathLst>
                <a:path w="99266" h="361950">
                  <a:moveTo>
                    <a:pt x="38100" y="0"/>
                  </a:moveTo>
                  <a:cubicBezTo>
                    <a:pt x="34925" y="33337"/>
                    <a:pt x="60345" y="89422"/>
                    <a:pt x="28575" y="100012"/>
                  </a:cubicBezTo>
                  <a:lnTo>
                    <a:pt x="0" y="109537"/>
                  </a:lnTo>
                  <a:cubicBezTo>
                    <a:pt x="1588" y="141287"/>
                    <a:pt x="651" y="173264"/>
                    <a:pt x="4763" y="204787"/>
                  </a:cubicBezTo>
                  <a:cubicBezTo>
                    <a:pt x="5503" y="210463"/>
                    <a:pt x="9818" y="215499"/>
                    <a:pt x="14288" y="219075"/>
                  </a:cubicBezTo>
                  <a:cubicBezTo>
                    <a:pt x="18208" y="222211"/>
                    <a:pt x="23813" y="222250"/>
                    <a:pt x="28575" y="223837"/>
                  </a:cubicBezTo>
                  <a:cubicBezTo>
                    <a:pt x="30163" y="239712"/>
                    <a:pt x="26736" y="256938"/>
                    <a:pt x="33338" y="271462"/>
                  </a:cubicBezTo>
                  <a:cubicBezTo>
                    <a:pt x="36047" y="277421"/>
                    <a:pt x="49209" y="270503"/>
                    <a:pt x="52388" y="276225"/>
                  </a:cubicBezTo>
                  <a:cubicBezTo>
                    <a:pt x="58603" y="287413"/>
                    <a:pt x="50050" y="303676"/>
                    <a:pt x="57150" y="314325"/>
                  </a:cubicBezTo>
                  <a:cubicBezTo>
                    <a:pt x="61640" y="321060"/>
                    <a:pt x="73110" y="317124"/>
                    <a:pt x="80963" y="319087"/>
                  </a:cubicBezTo>
                  <a:cubicBezTo>
                    <a:pt x="85833" y="320305"/>
                    <a:pt x="93663" y="319088"/>
                    <a:pt x="95250" y="323850"/>
                  </a:cubicBezTo>
                  <a:cubicBezTo>
                    <a:pt x="99266" y="335898"/>
                    <a:pt x="95250" y="349250"/>
                    <a:pt x="95250" y="36195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75"/>
            <p:cNvSpPr/>
            <p:nvPr/>
          </p:nvSpPr>
          <p:spPr>
            <a:xfrm>
              <a:off x="2611440" y="3657600"/>
              <a:ext cx="91800" cy="342720"/>
            </a:xfrm>
            <a:custGeom>
              <a:avLst/>
              <a:gdLst/>
              <a:ahLst/>
              <a:rect l="l" t="t" r="r" b="b"/>
              <a:pathLst>
                <a:path w="92433" h="342900">
                  <a:moveTo>
                    <a:pt x="55828" y="0"/>
                  </a:moveTo>
                  <a:cubicBezTo>
                    <a:pt x="54241" y="31750"/>
                    <a:pt x="57014" y="64022"/>
                    <a:pt x="51066" y="95250"/>
                  </a:cubicBezTo>
                  <a:cubicBezTo>
                    <a:pt x="50127" y="100182"/>
                    <a:pt x="40698" y="96877"/>
                    <a:pt x="36778" y="100013"/>
                  </a:cubicBezTo>
                  <a:cubicBezTo>
                    <a:pt x="32309" y="103589"/>
                    <a:pt x="30428" y="109538"/>
                    <a:pt x="27253" y="114300"/>
                  </a:cubicBezTo>
                  <a:cubicBezTo>
                    <a:pt x="25666" y="128588"/>
                    <a:pt x="27830" y="143816"/>
                    <a:pt x="22491" y="157163"/>
                  </a:cubicBezTo>
                  <a:cubicBezTo>
                    <a:pt x="20627" y="161824"/>
                    <a:pt x="8966" y="156963"/>
                    <a:pt x="8203" y="161925"/>
                  </a:cubicBezTo>
                  <a:cubicBezTo>
                    <a:pt x="5296" y="180819"/>
                    <a:pt x="0" y="205028"/>
                    <a:pt x="12966" y="219075"/>
                  </a:cubicBezTo>
                  <a:cubicBezTo>
                    <a:pt x="24859" y="231959"/>
                    <a:pt x="47891" y="222250"/>
                    <a:pt x="65353" y="223838"/>
                  </a:cubicBezTo>
                  <a:cubicBezTo>
                    <a:pt x="66941" y="228600"/>
                    <a:pt x="69616" y="233130"/>
                    <a:pt x="70116" y="238125"/>
                  </a:cubicBezTo>
                  <a:cubicBezTo>
                    <a:pt x="72806" y="265025"/>
                    <a:pt x="69013" y="292697"/>
                    <a:pt x="74878" y="319088"/>
                  </a:cubicBezTo>
                  <a:cubicBezTo>
                    <a:pt x="75967" y="323989"/>
                    <a:pt x="86583" y="319545"/>
                    <a:pt x="89166" y="323850"/>
                  </a:cubicBezTo>
                  <a:cubicBezTo>
                    <a:pt x="92433" y="329295"/>
                    <a:pt x="89166" y="336550"/>
                    <a:pt x="89166" y="3429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76"/>
            <p:cNvSpPr/>
            <p:nvPr/>
          </p:nvSpPr>
          <p:spPr>
            <a:xfrm>
              <a:off x="2806560" y="3657600"/>
              <a:ext cx="45720" cy="380880"/>
            </a:xfrm>
            <a:custGeom>
              <a:avLst/>
              <a:gdLst/>
              <a:ahLst/>
              <a:rect l="l" t="t" r="r" b="b"/>
              <a:pathLst>
                <a:path w="66886" h="331581">
                  <a:moveTo>
                    <a:pt x="28786" y="0"/>
                  </a:moveTo>
                  <a:cubicBezTo>
                    <a:pt x="30373" y="12700"/>
                    <a:pt x="26208" y="27615"/>
                    <a:pt x="33548" y="38100"/>
                  </a:cubicBezTo>
                  <a:cubicBezTo>
                    <a:pt x="39306" y="46325"/>
                    <a:pt x="62123" y="47625"/>
                    <a:pt x="62123" y="47625"/>
                  </a:cubicBezTo>
                  <a:cubicBezTo>
                    <a:pt x="63711" y="52388"/>
                    <a:pt x="66886" y="56893"/>
                    <a:pt x="66886" y="61913"/>
                  </a:cubicBezTo>
                  <a:cubicBezTo>
                    <a:pt x="66886" y="103876"/>
                    <a:pt x="61111" y="90600"/>
                    <a:pt x="19261" y="95250"/>
                  </a:cubicBezTo>
                  <a:cubicBezTo>
                    <a:pt x="13405" y="104034"/>
                    <a:pt x="0" y="116507"/>
                    <a:pt x="14498" y="128588"/>
                  </a:cubicBezTo>
                  <a:cubicBezTo>
                    <a:pt x="20717" y="133770"/>
                    <a:pt x="30373" y="131763"/>
                    <a:pt x="38311" y="133350"/>
                  </a:cubicBezTo>
                  <a:cubicBezTo>
                    <a:pt x="38172" y="135440"/>
                    <a:pt x="30808" y="251830"/>
                    <a:pt x="28786" y="261938"/>
                  </a:cubicBezTo>
                  <a:cubicBezTo>
                    <a:pt x="14858" y="331581"/>
                    <a:pt x="19261" y="202893"/>
                    <a:pt x="19261" y="300038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77"/>
            <p:cNvSpPr/>
            <p:nvPr/>
          </p:nvSpPr>
          <p:spPr>
            <a:xfrm>
              <a:off x="2943360" y="3667320"/>
              <a:ext cx="63360" cy="318960"/>
            </a:xfrm>
            <a:custGeom>
              <a:avLst/>
              <a:gdLst/>
              <a:ahLst/>
              <a:rect l="l" t="t" r="r" b="b"/>
              <a:pathLst>
                <a:path w="63962" h="319088">
                  <a:moveTo>
                    <a:pt x="29038" y="0"/>
                  </a:moveTo>
                  <a:cubicBezTo>
                    <a:pt x="30626" y="9525"/>
                    <a:pt x="31706" y="19149"/>
                    <a:pt x="33801" y="28575"/>
                  </a:cubicBezTo>
                  <a:cubicBezTo>
                    <a:pt x="40453" y="58510"/>
                    <a:pt x="51780" y="41313"/>
                    <a:pt x="33801" y="95250"/>
                  </a:cubicBezTo>
                  <a:cubicBezTo>
                    <a:pt x="32213" y="100013"/>
                    <a:pt x="24276" y="98425"/>
                    <a:pt x="19513" y="100013"/>
                  </a:cubicBezTo>
                  <a:cubicBezTo>
                    <a:pt x="9994" y="114291"/>
                    <a:pt x="0" y="122224"/>
                    <a:pt x="14751" y="142875"/>
                  </a:cubicBezTo>
                  <a:cubicBezTo>
                    <a:pt x="18555" y="148201"/>
                    <a:pt x="27451" y="146050"/>
                    <a:pt x="33801" y="147638"/>
                  </a:cubicBezTo>
                  <a:cubicBezTo>
                    <a:pt x="35388" y="152400"/>
                    <a:pt x="35013" y="158375"/>
                    <a:pt x="38563" y="161925"/>
                  </a:cubicBezTo>
                  <a:cubicBezTo>
                    <a:pt x="63962" y="187324"/>
                    <a:pt x="44915" y="142878"/>
                    <a:pt x="57613" y="180975"/>
                  </a:cubicBezTo>
                  <a:cubicBezTo>
                    <a:pt x="56026" y="188913"/>
                    <a:pt x="54814" y="196935"/>
                    <a:pt x="52851" y="204788"/>
                  </a:cubicBezTo>
                  <a:cubicBezTo>
                    <a:pt x="51633" y="209658"/>
                    <a:pt x="52173" y="216157"/>
                    <a:pt x="48088" y="219075"/>
                  </a:cubicBezTo>
                  <a:cubicBezTo>
                    <a:pt x="39918" y="224911"/>
                    <a:pt x="19513" y="228600"/>
                    <a:pt x="19513" y="228600"/>
                  </a:cubicBezTo>
                  <a:cubicBezTo>
                    <a:pt x="17926" y="233363"/>
                    <a:pt x="15514" y="237926"/>
                    <a:pt x="14751" y="242888"/>
                  </a:cubicBezTo>
                  <a:cubicBezTo>
                    <a:pt x="9040" y="280009"/>
                    <a:pt x="9988" y="286488"/>
                    <a:pt x="9988" y="319088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79"/>
            <p:cNvSpPr/>
            <p:nvPr/>
          </p:nvSpPr>
          <p:spPr>
            <a:xfrm>
              <a:off x="3214800" y="3652920"/>
              <a:ext cx="61560" cy="385560"/>
            </a:xfrm>
            <a:custGeom>
              <a:avLst/>
              <a:gdLst/>
              <a:ahLst/>
              <a:rect l="l" t="t" r="r" b="b"/>
              <a:pathLst>
                <a:path w="66675" h="309562">
                  <a:moveTo>
                    <a:pt x="57150" y="0"/>
                  </a:moveTo>
                  <a:cubicBezTo>
                    <a:pt x="50800" y="9525"/>
                    <a:pt x="41721" y="17715"/>
                    <a:pt x="38100" y="28575"/>
                  </a:cubicBezTo>
                  <a:cubicBezTo>
                    <a:pt x="31527" y="48292"/>
                    <a:pt x="36122" y="38685"/>
                    <a:pt x="23812" y="57150"/>
                  </a:cubicBezTo>
                  <a:cubicBezTo>
                    <a:pt x="22225" y="76200"/>
                    <a:pt x="24302" y="95919"/>
                    <a:pt x="19050" y="114300"/>
                  </a:cubicBezTo>
                  <a:cubicBezTo>
                    <a:pt x="17478" y="119804"/>
                    <a:pt x="7322" y="118705"/>
                    <a:pt x="4762" y="123825"/>
                  </a:cubicBezTo>
                  <a:cubicBezTo>
                    <a:pt x="444" y="132462"/>
                    <a:pt x="1587" y="142875"/>
                    <a:pt x="0" y="152400"/>
                  </a:cubicBezTo>
                  <a:cubicBezTo>
                    <a:pt x="1587" y="158750"/>
                    <a:pt x="3591" y="165010"/>
                    <a:pt x="4762" y="171450"/>
                  </a:cubicBezTo>
                  <a:cubicBezTo>
                    <a:pt x="6770" y="182494"/>
                    <a:pt x="4505" y="194747"/>
                    <a:pt x="9525" y="204787"/>
                  </a:cubicBezTo>
                  <a:cubicBezTo>
                    <a:pt x="11770" y="209277"/>
                    <a:pt x="19050" y="207962"/>
                    <a:pt x="23812" y="209550"/>
                  </a:cubicBezTo>
                  <a:cubicBezTo>
                    <a:pt x="25400" y="222250"/>
                    <a:pt x="22126" y="236595"/>
                    <a:pt x="28575" y="247650"/>
                  </a:cubicBezTo>
                  <a:cubicBezTo>
                    <a:pt x="34343" y="257538"/>
                    <a:pt x="57150" y="266700"/>
                    <a:pt x="57150" y="266700"/>
                  </a:cubicBezTo>
                  <a:cubicBezTo>
                    <a:pt x="58737" y="271462"/>
                    <a:pt x="60823" y="276087"/>
                    <a:pt x="61912" y="280987"/>
                  </a:cubicBezTo>
                  <a:cubicBezTo>
                    <a:pt x="64007" y="290413"/>
                    <a:pt x="66675" y="309562"/>
                    <a:pt x="66675" y="309562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81"/>
            <p:cNvSpPr/>
            <p:nvPr/>
          </p:nvSpPr>
          <p:spPr>
            <a:xfrm>
              <a:off x="3395520" y="3652920"/>
              <a:ext cx="45720" cy="338040"/>
            </a:xfrm>
            <a:custGeom>
              <a:avLst/>
              <a:gdLst/>
              <a:ahLst/>
              <a:rect l="l" t="t" r="r" b="b"/>
              <a:pathLst>
                <a:path w="45991" h="338137">
                  <a:moveTo>
                    <a:pt x="33337" y="0"/>
                  </a:moveTo>
                  <a:cubicBezTo>
                    <a:pt x="44058" y="32159"/>
                    <a:pt x="45991" y="31946"/>
                    <a:pt x="33337" y="85725"/>
                  </a:cubicBezTo>
                  <a:cubicBezTo>
                    <a:pt x="32026" y="91297"/>
                    <a:pt x="23812" y="92075"/>
                    <a:pt x="19050" y="95250"/>
                  </a:cubicBezTo>
                  <a:cubicBezTo>
                    <a:pt x="15875" y="104775"/>
                    <a:pt x="10770" y="113862"/>
                    <a:pt x="9525" y="123825"/>
                  </a:cubicBezTo>
                  <a:cubicBezTo>
                    <a:pt x="4139" y="166906"/>
                    <a:pt x="8809" y="149783"/>
                    <a:pt x="0" y="176212"/>
                  </a:cubicBezTo>
                  <a:cubicBezTo>
                    <a:pt x="316" y="180008"/>
                    <a:pt x="5216" y="252338"/>
                    <a:pt x="9525" y="266700"/>
                  </a:cubicBezTo>
                  <a:cubicBezTo>
                    <a:pt x="11170" y="272182"/>
                    <a:pt x="18294" y="275314"/>
                    <a:pt x="19050" y="280987"/>
                  </a:cubicBezTo>
                  <a:cubicBezTo>
                    <a:pt x="21568" y="299870"/>
                    <a:pt x="19050" y="319087"/>
                    <a:pt x="19050" y="338137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82"/>
            <p:cNvSpPr/>
            <p:nvPr/>
          </p:nvSpPr>
          <p:spPr>
            <a:xfrm>
              <a:off x="3564000" y="3657600"/>
              <a:ext cx="26640" cy="328680"/>
            </a:xfrm>
            <a:custGeom>
              <a:avLst/>
              <a:gdLst/>
              <a:ahLst/>
              <a:rect l="l" t="t" r="r" b="b"/>
              <a:pathLst>
                <a:path w="26580" h="328613">
                  <a:moveTo>
                    <a:pt x="16797" y="0"/>
                  </a:moveTo>
                  <a:cubicBezTo>
                    <a:pt x="15210" y="26988"/>
                    <a:pt x="14725" y="54063"/>
                    <a:pt x="12035" y="80963"/>
                  </a:cubicBezTo>
                  <a:cubicBezTo>
                    <a:pt x="11535" y="85958"/>
                    <a:pt x="8257" y="90327"/>
                    <a:pt x="7272" y="95250"/>
                  </a:cubicBezTo>
                  <a:cubicBezTo>
                    <a:pt x="5071" y="106257"/>
                    <a:pt x="4097" y="117475"/>
                    <a:pt x="2510" y="128588"/>
                  </a:cubicBezTo>
                  <a:cubicBezTo>
                    <a:pt x="4097" y="150813"/>
                    <a:pt x="4669" y="173134"/>
                    <a:pt x="7272" y="195263"/>
                  </a:cubicBezTo>
                  <a:cubicBezTo>
                    <a:pt x="7859" y="200249"/>
                    <a:pt x="10946" y="204650"/>
                    <a:pt x="12035" y="209550"/>
                  </a:cubicBezTo>
                  <a:cubicBezTo>
                    <a:pt x="20591" y="248051"/>
                    <a:pt x="9750" y="227554"/>
                    <a:pt x="26322" y="252413"/>
                  </a:cubicBezTo>
                  <a:cubicBezTo>
                    <a:pt x="24735" y="263525"/>
                    <a:pt x="26580" y="275710"/>
                    <a:pt x="21560" y="285750"/>
                  </a:cubicBezTo>
                  <a:cubicBezTo>
                    <a:pt x="19315" y="290240"/>
                    <a:pt x="10822" y="286963"/>
                    <a:pt x="7272" y="290513"/>
                  </a:cubicBezTo>
                  <a:cubicBezTo>
                    <a:pt x="0" y="297785"/>
                    <a:pt x="2510" y="322780"/>
                    <a:pt x="2510" y="328613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83"/>
            <p:cNvSpPr/>
            <p:nvPr/>
          </p:nvSpPr>
          <p:spPr>
            <a:xfrm>
              <a:off x="3686400" y="3657600"/>
              <a:ext cx="71280" cy="338040"/>
            </a:xfrm>
            <a:custGeom>
              <a:avLst/>
              <a:gdLst/>
              <a:ahLst/>
              <a:rect l="l" t="t" r="r" b="b"/>
              <a:pathLst>
                <a:path w="71918" h="338138">
                  <a:moveTo>
                    <a:pt x="47625" y="0"/>
                  </a:moveTo>
                  <a:cubicBezTo>
                    <a:pt x="46038" y="15875"/>
                    <a:pt x="48315" y="32631"/>
                    <a:pt x="42863" y="47625"/>
                  </a:cubicBezTo>
                  <a:cubicBezTo>
                    <a:pt x="41147" y="52343"/>
                    <a:pt x="33065" y="50143"/>
                    <a:pt x="28575" y="52388"/>
                  </a:cubicBezTo>
                  <a:cubicBezTo>
                    <a:pt x="23456" y="54948"/>
                    <a:pt x="19050" y="58738"/>
                    <a:pt x="14288" y="61913"/>
                  </a:cubicBezTo>
                  <a:cubicBezTo>
                    <a:pt x="9472" y="69137"/>
                    <a:pt x="0" y="80629"/>
                    <a:pt x="0" y="90488"/>
                  </a:cubicBezTo>
                  <a:cubicBezTo>
                    <a:pt x="0" y="103060"/>
                    <a:pt x="21096" y="129275"/>
                    <a:pt x="23813" y="133350"/>
                  </a:cubicBezTo>
                  <a:cubicBezTo>
                    <a:pt x="36513" y="152401"/>
                    <a:pt x="28575" y="144462"/>
                    <a:pt x="47625" y="157163"/>
                  </a:cubicBezTo>
                  <a:cubicBezTo>
                    <a:pt x="63689" y="205349"/>
                    <a:pt x="71918" y="224459"/>
                    <a:pt x="47625" y="300038"/>
                  </a:cubicBezTo>
                  <a:cubicBezTo>
                    <a:pt x="43708" y="312223"/>
                    <a:pt x="18575" y="295750"/>
                    <a:pt x="9525" y="304800"/>
                  </a:cubicBezTo>
                  <a:lnTo>
                    <a:pt x="9525" y="338138"/>
                  </a:ln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Box 84"/>
          <p:cNvSpPr/>
          <p:nvPr/>
        </p:nvSpPr>
        <p:spPr>
          <a:xfrm>
            <a:off x="383400" y="502920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ant Screen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85"/>
          <p:cNvSpPr/>
          <p:nvPr/>
        </p:nvSpPr>
        <p:spPr>
          <a:xfrm>
            <a:off x="314640" y="25909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Straight Arrow Connector 87"/>
          <p:cNvCxnSpPr/>
          <p:nvPr/>
        </p:nvCxnSpPr>
        <p:spPr>
          <a:xfrm>
            <a:off x="1133640" y="2901960"/>
            <a:ext cx="39096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44" name="Group 136"/>
          <p:cNvGrpSpPr/>
          <p:nvPr/>
        </p:nvGrpSpPr>
        <p:grpSpPr>
          <a:xfrm>
            <a:off x="4419720" y="2438280"/>
            <a:ext cx="3666960" cy="2333880"/>
            <a:chOff x="4419720" y="2438280"/>
            <a:chExt cx="3666960" cy="2333880"/>
          </a:xfrm>
        </p:grpSpPr>
        <p:sp>
          <p:nvSpPr>
            <p:cNvPr id="345" name="Rectangle 128"/>
            <p:cNvSpPr/>
            <p:nvPr/>
          </p:nvSpPr>
          <p:spPr>
            <a:xfrm>
              <a:off x="4430520" y="2580840"/>
              <a:ext cx="3638520" cy="5191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23"/>
            <p:cNvSpPr/>
            <p:nvPr/>
          </p:nvSpPr>
          <p:spPr>
            <a:xfrm>
              <a:off x="4425840" y="3111480"/>
              <a:ext cx="3657600" cy="609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Group 26"/>
            <p:cNvGrpSpPr/>
            <p:nvPr/>
          </p:nvGrpSpPr>
          <p:grpSpPr>
            <a:xfrm>
              <a:off x="4425840" y="3339720"/>
              <a:ext cx="3660840" cy="1432440"/>
              <a:chOff x="4425840" y="3339720"/>
              <a:chExt cx="3660840" cy="1432440"/>
            </a:xfrm>
          </p:grpSpPr>
          <p:grpSp>
            <p:nvGrpSpPr>
              <p:cNvPr id="348" name="Group 9"/>
              <p:cNvGrpSpPr/>
              <p:nvPr/>
            </p:nvGrpSpPr>
            <p:grpSpPr>
              <a:xfrm>
                <a:off x="4425840" y="3705120"/>
                <a:ext cx="3660840" cy="1067040"/>
                <a:chOff x="4425840" y="3705120"/>
                <a:chExt cx="3660840" cy="1067040"/>
              </a:xfrm>
            </p:grpSpPr>
            <p:sp>
              <p:nvSpPr>
                <p:cNvPr id="349" name="Rectangle 118"/>
                <p:cNvSpPr/>
                <p:nvPr/>
              </p:nvSpPr>
              <p:spPr>
                <a:xfrm>
                  <a:off x="4425840" y="3705120"/>
                  <a:ext cx="3657960" cy="759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119"/>
                <p:cNvSpPr/>
                <p:nvPr/>
              </p:nvSpPr>
              <p:spPr>
                <a:xfrm>
                  <a:off x="4428720" y="3781080"/>
                  <a:ext cx="3657960" cy="991080"/>
                </a:xfrm>
                <a:prstGeom prst="rect">
                  <a:avLst/>
                </a:prstGeom>
                <a:solidFill>
                  <a:srgbClr val="2222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p+ Si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Left Bracket 110"/>
              <p:cNvSpPr/>
              <p:nvPr/>
            </p:nvSpPr>
            <p:spPr>
              <a:xfrm rot="16200000">
                <a:off x="5408280" y="3445920"/>
                <a:ext cx="241200" cy="873000"/>
              </a:xfrm>
              <a:custGeom>
                <a:avLst/>
                <a:gdLst>
                  <a:gd name="textAreaLeft" fmla="*/ 70920 w 241200"/>
                  <a:gd name="textAreaRight" fmla="*/ 241560 w 241200"/>
                  <a:gd name="textAreaTop" fmla="*/ 70920 h 873000"/>
                  <a:gd name="textAreaBottom" fmla="*/ 802080 h 87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1756"/>
                      <a:pt x="0" y="3511"/>
                    </a:cubicBezTo>
                    <a:lnTo>
                      <a:pt x="0" y="18089"/>
                    </a:lnTo>
                    <a:cubicBezTo>
                      <a:pt x="0" y="19845"/>
                      <a:pt x="10800" y="21600"/>
                      <a:pt x="21600" y="21600"/>
                    </a:cubicBezTo>
                  </a:path>
                </a:pathLst>
              </a:custGeom>
              <a:solidFill>
                <a:srgbClr val="ffc000"/>
              </a:solidFill>
              <a:ln w="9360">
                <a:solidFill>
                  <a:srgbClr val="b6dcd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eft Bracket 111"/>
              <p:cNvSpPr/>
              <p:nvPr/>
            </p:nvSpPr>
            <p:spPr>
              <a:xfrm rot="16200000">
                <a:off x="6846480" y="3455640"/>
                <a:ext cx="241200" cy="873000"/>
              </a:xfrm>
              <a:custGeom>
                <a:avLst/>
                <a:gdLst>
                  <a:gd name="textAreaLeft" fmla="*/ 70920 w 241200"/>
                  <a:gd name="textAreaRight" fmla="*/ 241560 w 241200"/>
                  <a:gd name="textAreaTop" fmla="*/ 70920 h 873000"/>
                  <a:gd name="textAreaBottom" fmla="*/ 802080 h 87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1756"/>
                      <a:pt x="0" y="3511"/>
                    </a:cubicBezTo>
                    <a:lnTo>
                      <a:pt x="0" y="18089"/>
                    </a:lnTo>
                    <a:cubicBezTo>
                      <a:pt x="0" y="19845"/>
                      <a:pt x="10800" y="21600"/>
                      <a:pt x="21600" y="21600"/>
                    </a:cubicBezTo>
                  </a:path>
                </a:pathLst>
              </a:custGeom>
              <a:solidFill>
                <a:srgbClr val="ffc000"/>
              </a:solidFill>
              <a:ln w="9360">
                <a:solidFill>
                  <a:srgbClr val="b6dcd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lowchart: Delay 112"/>
              <p:cNvSpPr/>
              <p:nvPr/>
            </p:nvSpPr>
            <p:spPr>
              <a:xfrm>
                <a:off x="4425840" y="3617640"/>
                <a:ext cx="685800" cy="228600"/>
              </a:xfrm>
              <a:prstGeom prst="flowChartDelay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lowchart: Delay 113"/>
              <p:cNvSpPr/>
              <p:nvPr/>
            </p:nvSpPr>
            <p:spPr>
              <a:xfrm rot="10800000">
                <a:off x="7397280" y="3628440"/>
                <a:ext cx="685800" cy="228600"/>
              </a:xfrm>
              <a:prstGeom prst="flowChartDelay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Box 114"/>
              <p:cNvSpPr/>
              <p:nvPr/>
            </p:nvSpPr>
            <p:spPr>
              <a:xfrm>
                <a:off x="5921640" y="3400200"/>
                <a:ext cx="61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G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Box 115"/>
              <p:cNvSpPr/>
              <p:nvPr/>
            </p:nvSpPr>
            <p:spPr>
              <a:xfrm>
                <a:off x="6639840" y="3705120"/>
                <a:ext cx="66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rai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Box 116"/>
              <p:cNvSpPr/>
              <p:nvPr/>
            </p:nvSpPr>
            <p:spPr>
              <a:xfrm>
                <a:off x="5116680" y="3720600"/>
                <a:ext cx="82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rapezoid 117"/>
              <p:cNvSpPr/>
              <p:nvPr/>
            </p:nvSpPr>
            <p:spPr>
              <a:xfrm>
                <a:off x="5973480" y="3339720"/>
                <a:ext cx="573120" cy="365040"/>
              </a:xfrm>
              <a:custGeom>
                <a:avLst/>
                <a:gdLst/>
                <a:ahLst/>
                <a:rect l="l" t="t" r="r" b="b"/>
                <a:pathLst>
                  <a:path w="573067" h="365224">
                    <a:moveTo>
                      <a:pt x="0" y="365224"/>
                    </a:moveTo>
                    <a:lnTo>
                      <a:pt x="44557" y="0"/>
                    </a:lnTo>
                    <a:lnTo>
                      <a:pt x="528510" y="0"/>
                    </a:lnTo>
                    <a:lnTo>
                      <a:pt x="573067" y="365224"/>
                    </a:lnTo>
                    <a:lnTo>
                      <a:pt x="0" y="365224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Trapezoid 120"/>
            <p:cNvSpPr/>
            <p:nvPr/>
          </p:nvSpPr>
          <p:spPr>
            <a:xfrm rot="10800000">
              <a:off x="5384520" y="3111120"/>
              <a:ext cx="247320" cy="654120"/>
            </a:xfrm>
            <a:custGeom>
              <a:avLst/>
              <a:gdLst/>
              <a:ahLst/>
              <a:rect l="l" t="t" r="r" b="b"/>
              <a:pathLst>
                <a:path w="247641" h="654228">
                  <a:moveTo>
                    <a:pt x="0" y="654228"/>
                  </a:moveTo>
                  <a:lnTo>
                    <a:pt x="61910" y="0"/>
                  </a:lnTo>
                  <a:lnTo>
                    <a:pt x="185731" y="0"/>
                  </a:lnTo>
                  <a:lnTo>
                    <a:pt x="247641" y="654228"/>
                  </a:lnTo>
                  <a:lnTo>
                    <a:pt x="0" y="654228"/>
                  </a:ln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rapezoid 121"/>
            <p:cNvSpPr/>
            <p:nvPr/>
          </p:nvSpPr>
          <p:spPr>
            <a:xfrm rot="10800000">
              <a:off x="6102000" y="3111120"/>
              <a:ext cx="247320" cy="228600"/>
            </a:xfrm>
            <a:custGeom>
              <a:avLst/>
              <a:gdLst/>
              <a:ahLst/>
              <a:rect l="l" t="t" r="r" b="b"/>
              <a:pathLst>
                <a:path w="247641" h="228662">
                  <a:moveTo>
                    <a:pt x="0" y="228662"/>
                  </a:moveTo>
                  <a:lnTo>
                    <a:pt x="57166" y="0"/>
                  </a:lnTo>
                  <a:lnTo>
                    <a:pt x="190476" y="0"/>
                  </a:lnTo>
                  <a:lnTo>
                    <a:pt x="247641" y="228662"/>
                  </a:lnTo>
                  <a:lnTo>
                    <a:pt x="0" y="228662"/>
                  </a:ln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rapezoid 122"/>
            <p:cNvSpPr/>
            <p:nvPr/>
          </p:nvSpPr>
          <p:spPr>
            <a:xfrm rot="10800000">
              <a:off x="6870240" y="3111480"/>
              <a:ext cx="247320" cy="660240"/>
            </a:xfrm>
            <a:custGeom>
              <a:avLst/>
              <a:gdLst/>
              <a:ahLst/>
              <a:rect l="l" t="t" r="r" b="b"/>
              <a:pathLst>
                <a:path w="247641" h="660580">
                  <a:moveTo>
                    <a:pt x="0" y="660580"/>
                  </a:moveTo>
                  <a:lnTo>
                    <a:pt x="61910" y="0"/>
                  </a:lnTo>
                  <a:lnTo>
                    <a:pt x="185731" y="0"/>
                  </a:lnTo>
                  <a:lnTo>
                    <a:pt x="247641" y="660580"/>
                  </a:lnTo>
                  <a:lnTo>
                    <a:pt x="0" y="660580"/>
                  </a:ln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ound Single Corner Rectangle 125"/>
            <p:cNvSpPr/>
            <p:nvPr/>
          </p:nvSpPr>
          <p:spPr>
            <a:xfrm flipH="1">
              <a:off x="6860520" y="2958840"/>
              <a:ext cx="1222200" cy="161640"/>
            </a:xfrm>
            <a:custGeom>
              <a:avLst/>
              <a:gdLst/>
              <a:ahLst/>
              <a:rect l="l" t="t" r="r" b="b"/>
              <a:pathLst>
                <a:path w="1222333" h="161969">
                  <a:moveTo>
                    <a:pt x="0" y="0"/>
                  </a:moveTo>
                  <a:lnTo>
                    <a:pt x="1141349" y="0"/>
                  </a:lnTo>
                  <a:cubicBezTo>
                    <a:pt x="1186076" y="0"/>
                    <a:pt x="1222334" y="36258"/>
                    <a:pt x="1222334" y="80985"/>
                  </a:cubicBezTo>
                  <a:cubicBezTo>
                    <a:pt x="1222334" y="107980"/>
                    <a:pt x="1222333" y="134974"/>
                    <a:pt x="1222333" y="161969"/>
                  </a:cubicBezTo>
                  <a:lnTo>
                    <a:pt x="0" y="1619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ound Same Side Corner Rectangle 127"/>
            <p:cNvSpPr/>
            <p:nvPr/>
          </p:nvSpPr>
          <p:spPr>
            <a:xfrm>
              <a:off x="4960800" y="2968560"/>
              <a:ext cx="736560" cy="145800"/>
            </a:xfrm>
            <a:custGeom>
              <a:avLst/>
              <a:gdLst/>
              <a:ahLst/>
              <a:rect l="l" t="t" r="r" b="b"/>
              <a:pathLst>
                <a:path w="736574" h="146090">
                  <a:moveTo>
                    <a:pt x="73045" y="0"/>
                  </a:moveTo>
                  <a:lnTo>
                    <a:pt x="663529" y="0"/>
                  </a:lnTo>
                  <a:cubicBezTo>
                    <a:pt x="703871" y="0"/>
                    <a:pt x="736574" y="32703"/>
                    <a:pt x="736574" y="73045"/>
                  </a:cubicBezTo>
                  <a:lnTo>
                    <a:pt x="736574" y="146090"/>
                  </a:lnTo>
                  <a:lnTo>
                    <a:pt x="736574" y="146090"/>
                  </a:lnTo>
                  <a:lnTo>
                    <a:pt x="0" y="146090"/>
                  </a:lnTo>
                  <a:lnTo>
                    <a:pt x="0" y="146090"/>
                  </a:lnTo>
                  <a:lnTo>
                    <a:pt x="0" y="73045"/>
                  </a:lnTo>
                  <a:cubicBezTo>
                    <a:pt x="0" y="32703"/>
                    <a:pt x="32703" y="0"/>
                    <a:pt x="73045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ound Single Corner Rectangle 129"/>
            <p:cNvSpPr/>
            <p:nvPr/>
          </p:nvSpPr>
          <p:spPr>
            <a:xfrm>
              <a:off x="4419720" y="2438280"/>
              <a:ext cx="228600" cy="152280"/>
            </a:xfrm>
            <a:custGeom>
              <a:avLst/>
              <a:gdLst/>
              <a:ahLst/>
              <a:rect l="l" t="t" r="r" b="b"/>
              <a:pathLst>
                <a:path w="228592" h="152441">
                  <a:moveTo>
                    <a:pt x="0" y="0"/>
                  </a:moveTo>
                  <a:lnTo>
                    <a:pt x="152372" y="0"/>
                  </a:lnTo>
                  <a:cubicBezTo>
                    <a:pt x="194468" y="0"/>
                    <a:pt x="228593" y="34125"/>
                    <a:pt x="228593" y="76221"/>
                  </a:cubicBezTo>
                  <a:cubicBezTo>
                    <a:pt x="228593" y="101628"/>
                    <a:pt x="228592" y="127034"/>
                    <a:pt x="228592" y="152441"/>
                  </a:cubicBezTo>
                  <a:lnTo>
                    <a:pt x="0" y="1524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ound Same Side Corner Rectangle 130"/>
            <p:cNvSpPr/>
            <p:nvPr/>
          </p:nvSpPr>
          <p:spPr>
            <a:xfrm>
              <a:off x="5321160" y="2438280"/>
              <a:ext cx="838080" cy="152280"/>
            </a:xfrm>
            <a:custGeom>
              <a:avLst/>
              <a:gdLst/>
              <a:ahLst/>
              <a:rect l="l" t="t" r="r" b="b"/>
              <a:pathLst>
                <a:path w="838171" h="152441">
                  <a:moveTo>
                    <a:pt x="76221" y="0"/>
                  </a:moveTo>
                  <a:lnTo>
                    <a:pt x="761951" y="0"/>
                  </a:lnTo>
                  <a:cubicBezTo>
                    <a:pt x="804047" y="0"/>
                    <a:pt x="838172" y="34125"/>
                    <a:pt x="838172" y="76221"/>
                  </a:cubicBezTo>
                  <a:cubicBezTo>
                    <a:pt x="838172" y="101628"/>
                    <a:pt x="838171" y="127034"/>
                    <a:pt x="838171" y="152441"/>
                  </a:cubicBezTo>
                  <a:lnTo>
                    <a:pt x="838171" y="152441"/>
                  </a:lnTo>
                  <a:lnTo>
                    <a:pt x="0" y="152441"/>
                  </a:lnTo>
                  <a:lnTo>
                    <a:pt x="0" y="152441"/>
                  </a:lnTo>
                  <a:lnTo>
                    <a:pt x="0" y="76221"/>
                  </a:lnTo>
                  <a:cubicBezTo>
                    <a:pt x="0" y="34125"/>
                    <a:pt x="34125" y="0"/>
                    <a:pt x="76221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ound Same Side Corner Rectangle 131"/>
            <p:cNvSpPr/>
            <p:nvPr/>
          </p:nvSpPr>
          <p:spPr>
            <a:xfrm>
              <a:off x="7169400" y="2438280"/>
              <a:ext cx="838080" cy="152280"/>
            </a:xfrm>
            <a:custGeom>
              <a:avLst/>
              <a:gdLst/>
              <a:ahLst/>
              <a:rect l="l" t="t" r="r" b="b"/>
              <a:pathLst>
                <a:path w="838171" h="152441">
                  <a:moveTo>
                    <a:pt x="76221" y="0"/>
                  </a:moveTo>
                  <a:lnTo>
                    <a:pt x="761951" y="0"/>
                  </a:lnTo>
                  <a:cubicBezTo>
                    <a:pt x="804047" y="0"/>
                    <a:pt x="838172" y="34125"/>
                    <a:pt x="838172" y="76221"/>
                  </a:cubicBezTo>
                  <a:cubicBezTo>
                    <a:pt x="838172" y="101628"/>
                    <a:pt x="838171" y="127034"/>
                    <a:pt x="838171" y="152441"/>
                  </a:cubicBezTo>
                  <a:lnTo>
                    <a:pt x="838171" y="152441"/>
                  </a:lnTo>
                  <a:lnTo>
                    <a:pt x="0" y="152441"/>
                  </a:lnTo>
                  <a:lnTo>
                    <a:pt x="0" y="152441"/>
                  </a:lnTo>
                  <a:lnTo>
                    <a:pt x="0" y="76221"/>
                  </a:lnTo>
                  <a:cubicBezTo>
                    <a:pt x="0" y="34125"/>
                    <a:pt x="34125" y="0"/>
                    <a:pt x="76221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TextBox 132"/>
          <p:cNvSpPr/>
          <p:nvPr/>
        </p:nvSpPr>
        <p:spPr>
          <a:xfrm>
            <a:off x="7702200" y="17524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Straight Arrow Connector 134"/>
          <p:cNvCxnSpPr>
            <a:endCxn id="366" idx="3"/>
          </p:cNvCxnSpPr>
          <p:nvPr/>
        </p:nvCxnSpPr>
        <p:spPr>
          <a:xfrm flipH="1">
            <a:off x="7587360" y="2048040"/>
            <a:ext cx="148680" cy="39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9" name="TextBox 135"/>
          <p:cNvSpPr/>
          <p:nvPr/>
        </p:nvSpPr>
        <p:spPr>
          <a:xfrm>
            <a:off x="8159400" y="24541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0" name="Straight Arrow Connector 141"/>
          <p:cNvCxnSpPr>
            <a:endCxn id="362" idx="1"/>
          </p:cNvCxnSpPr>
          <p:nvPr/>
        </p:nvCxnSpPr>
        <p:spPr>
          <a:xfrm flipH="1">
            <a:off x="8083440" y="2765880"/>
            <a:ext cx="31788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1" name="TextBox 142"/>
          <p:cNvSpPr/>
          <p:nvPr/>
        </p:nvSpPr>
        <p:spPr>
          <a:xfrm>
            <a:off x="3902400" y="167652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lating barrier 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Straight Arrow Connector 144"/>
          <p:cNvCxnSpPr/>
          <p:nvPr/>
        </p:nvCxnSpPr>
        <p:spPr>
          <a:xfrm>
            <a:off x="5029200" y="1980720"/>
            <a:ext cx="7668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3" name="Round Same Side Corner Rectangle 148"/>
          <p:cNvSpPr/>
          <p:nvPr/>
        </p:nvSpPr>
        <p:spPr>
          <a:xfrm>
            <a:off x="6029280" y="2957400"/>
            <a:ext cx="395280" cy="155520"/>
          </a:xfrm>
          <a:custGeom>
            <a:avLst/>
            <a:gdLst/>
            <a:ahLst/>
            <a:rect l="l" t="t" r="r" b="b"/>
            <a:pathLst>
              <a:path w="395288" h="155575">
                <a:moveTo>
                  <a:pt x="77788" y="0"/>
                </a:moveTo>
                <a:lnTo>
                  <a:pt x="317501" y="0"/>
                </a:lnTo>
                <a:cubicBezTo>
                  <a:pt x="360462" y="0"/>
                  <a:pt x="395289" y="34827"/>
                  <a:pt x="395289" y="77788"/>
                </a:cubicBezTo>
                <a:cubicBezTo>
                  <a:pt x="395289" y="103717"/>
                  <a:pt x="395288" y="129646"/>
                  <a:pt x="395288" y="155575"/>
                </a:cubicBezTo>
                <a:lnTo>
                  <a:pt x="395288" y="155575"/>
                </a:lnTo>
                <a:lnTo>
                  <a:pt x="0" y="155575"/>
                </a:lnTo>
                <a:lnTo>
                  <a:pt x="0" y="155575"/>
                </a:lnTo>
                <a:lnTo>
                  <a:pt x="0" y="77788"/>
                </a:lnTo>
                <a:cubicBezTo>
                  <a:pt x="0" y="34827"/>
                  <a:pt x="34827" y="0"/>
                  <a:pt x="7778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5"/>
          <p:cNvSpPr/>
          <p:nvPr/>
        </p:nvSpPr>
        <p:spPr>
          <a:xfrm>
            <a:off x="304920" y="6095880"/>
            <a:ext cx="293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blic Domain: Image generated by CNEU Staff for free 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– Silicon d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urnace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y 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 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Pressure Ox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Vapor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ing Dielectric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methods fo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ow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x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temperature oxidation  (furn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/ oxygen: dry 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/ steam: wet 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pressure oxidation – HiP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method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posi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x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D – chemical vapor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nac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parameters for furnace proces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 grad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 composition and p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 flow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al stress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– Silicon d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nace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ry 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 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Pressure Ox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Vapor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y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that occurs as a result of oxygen reacting with sil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s high quality thin layers of oxide (i.e. gate oxi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s oxide at a slow 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y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is performed in the furnace at a high temperature  (normally above 100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oxygen as the process g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use HCl in process to reduce charges at the wafer su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y Ox. Process Reci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685800" y="1066680"/>
          <a:ext cx="7772400" cy="5040360"/>
        </p:xfrm>
        <a:graphic>
          <a:graphicData uri="http://schemas.openxmlformats.org/drawingml/2006/table">
            <a:tbl>
              <a:tblPr/>
              <a:tblGrid>
                <a:gridCol w="1927080"/>
                <a:gridCol w="968400"/>
                <a:gridCol w="2362320"/>
                <a:gridCol w="914400"/>
                <a:gridCol w="685800"/>
                <a:gridCol w="914400"/>
              </a:tblGrid>
              <a:tr h="3661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(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. (°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 Flow (SL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Idle 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Push wafer into furn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Ramp up te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°C/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Temp. stab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) Dry oxide grow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) Ann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) Ramp down temp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°C/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) Retrieve wa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m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any furnace process, temperatures need to be changed slowly when wafers are pres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amp-up rate (in this recipe) is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/min.  The ramp-down rate is –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/m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slow rates are necessary to prevent warping or other thermal stress problems in the silicon wafer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troduction – Silicon D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nace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y 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 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Pressure Ox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Vapor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ing Dielectric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y Ox. Growth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50"/>
          <p:cNvGrpSpPr/>
          <p:nvPr/>
        </p:nvGrpSpPr>
        <p:grpSpPr>
          <a:xfrm>
            <a:off x="990720" y="1447920"/>
            <a:ext cx="12206160" cy="8128800"/>
            <a:chOff x="990720" y="1447920"/>
            <a:chExt cx="12206160" cy="8128800"/>
          </a:xfrm>
        </p:grpSpPr>
        <p:sp>
          <p:nvSpPr>
            <p:cNvPr id="393" name="Arc 3"/>
            <p:cNvSpPr/>
            <p:nvPr/>
          </p:nvSpPr>
          <p:spPr>
            <a:xfrm flipV="1" rot="10800000">
              <a:off x="2401920" y="2391120"/>
              <a:ext cx="10794960" cy="7185240"/>
            </a:xfrm>
            <a:custGeom>
              <a:avLst/>
              <a:gdLst/>
              <a:ahLst/>
              <a:rect l="l" t="t" r="r" b="b"/>
              <a:pathLst>
                <a:path stroke="0" w="9175792" h="6107649">
                  <a:moveTo>
                    <a:pt x="4809365" y="3560"/>
                  </a:moveTo>
                  <a:cubicBezTo>
                    <a:pt x="6958927" y="72709"/>
                    <a:pt x="8747386" y="1127088"/>
                    <a:pt x="9110144" y="2539066"/>
                  </a:cubicBezTo>
                  <a:lnTo>
                    <a:pt x="4587896" y="3053825"/>
                  </a:lnTo>
                  <a:lnTo>
                    <a:pt x="4809365" y="3560"/>
                  </a:lnTo>
                  <a:close/>
                </a:path>
                <a:path fill="none" w="9175792" h="6107649">
                  <a:moveTo>
                    <a:pt x="4809365" y="3560"/>
                  </a:moveTo>
                  <a:cubicBezTo>
                    <a:pt x="6958927" y="72709"/>
                    <a:pt x="8747386" y="1127088"/>
                    <a:pt x="9110144" y="2539066"/>
                  </a:cubicBezTo>
                </a:path>
              </a:pathLst>
            </a:custGeom>
            <a:noFill/>
            <a:ln w="57240">
              <a:solidFill>
                <a:srgbClr val="2222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Straight Connector 5"/>
            <p:cNvSpPr/>
            <p:nvPr/>
          </p:nvSpPr>
          <p:spPr>
            <a:xfrm flipV="1">
              <a:off x="2424240" y="1672920"/>
              <a:ext cx="1440" cy="3763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Straight Connector 6"/>
            <p:cNvSpPr/>
            <p:nvPr/>
          </p:nvSpPr>
          <p:spPr>
            <a:xfrm flipH="1">
              <a:off x="2388960" y="5376960"/>
              <a:ext cx="5218200" cy="15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Straight Connector 11"/>
            <p:cNvSpPr/>
            <p:nvPr/>
          </p:nvSpPr>
          <p:spPr>
            <a:xfrm flipH="1">
              <a:off x="7264440" y="5168880"/>
              <a:ext cx="2880" cy="44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Straight Connector 12"/>
            <p:cNvSpPr/>
            <p:nvPr/>
          </p:nvSpPr>
          <p:spPr>
            <a:xfrm flipH="1">
              <a:off x="6296040" y="5159520"/>
              <a:ext cx="2880" cy="44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Straight Connector 14"/>
            <p:cNvSpPr/>
            <p:nvPr/>
          </p:nvSpPr>
          <p:spPr>
            <a:xfrm flipH="1">
              <a:off x="5329440" y="5168880"/>
              <a:ext cx="1440" cy="44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Straight Connector 15"/>
            <p:cNvSpPr/>
            <p:nvPr/>
          </p:nvSpPr>
          <p:spPr>
            <a:xfrm flipH="1">
              <a:off x="4361040" y="5159520"/>
              <a:ext cx="1440" cy="44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Straight Connector 16"/>
            <p:cNvSpPr/>
            <p:nvPr/>
          </p:nvSpPr>
          <p:spPr>
            <a:xfrm flipH="1">
              <a:off x="3375000" y="5168880"/>
              <a:ext cx="1440" cy="44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Straight Connector 26"/>
            <p:cNvSpPr/>
            <p:nvPr/>
          </p:nvSpPr>
          <p:spPr>
            <a:xfrm>
              <a:off x="2201760" y="2433600"/>
              <a:ext cx="447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Straight Connector 27"/>
            <p:cNvSpPr/>
            <p:nvPr/>
          </p:nvSpPr>
          <p:spPr>
            <a:xfrm>
              <a:off x="2201760" y="3165480"/>
              <a:ext cx="447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Straight Connector 28"/>
            <p:cNvSpPr/>
            <p:nvPr/>
          </p:nvSpPr>
          <p:spPr>
            <a:xfrm>
              <a:off x="2209680" y="3905280"/>
              <a:ext cx="447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Straight Connector 29"/>
            <p:cNvSpPr/>
            <p:nvPr/>
          </p:nvSpPr>
          <p:spPr>
            <a:xfrm>
              <a:off x="2216160" y="4651560"/>
              <a:ext cx="44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Straight Connector 34"/>
            <p:cNvSpPr/>
            <p:nvPr/>
          </p:nvSpPr>
          <p:spPr>
            <a:xfrm>
              <a:off x="2193840" y="1677960"/>
              <a:ext cx="44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Box 35"/>
            <p:cNvSpPr/>
            <p:nvPr/>
          </p:nvSpPr>
          <p:spPr>
            <a:xfrm>
              <a:off x="1539360" y="144792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Box 36"/>
            <p:cNvSpPr/>
            <p:nvPr/>
          </p:nvSpPr>
          <p:spPr>
            <a:xfrm>
              <a:off x="1533600" y="22042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Box 37"/>
            <p:cNvSpPr/>
            <p:nvPr/>
          </p:nvSpPr>
          <p:spPr>
            <a:xfrm>
              <a:off x="1522440" y="294372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Box 38"/>
            <p:cNvSpPr/>
            <p:nvPr/>
          </p:nvSpPr>
          <p:spPr>
            <a:xfrm>
              <a:off x="1528200" y="36831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Box 39"/>
            <p:cNvSpPr/>
            <p:nvPr/>
          </p:nvSpPr>
          <p:spPr>
            <a:xfrm>
              <a:off x="1550520" y="44283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Box 40"/>
            <p:cNvSpPr/>
            <p:nvPr/>
          </p:nvSpPr>
          <p:spPr>
            <a:xfrm>
              <a:off x="3090240" y="5532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Box 41"/>
            <p:cNvSpPr/>
            <p:nvPr/>
          </p:nvSpPr>
          <p:spPr>
            <a:xfrm>
              <a:off x="4065120" y="55267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Box 42"/>
            <p:cNvSpPr/>
            <p:nvPr/>
          </p:nvSpPr>
          <p:spPr>
            <a:xfrm>
              <a:off x="5045760" y="551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Box 43"/>
            <p:cNvSpPr/>
            <p:nvPr/>
          </p:nvSpPr>
          <p:spPr>
            <a:xfrm>
              <a:off x="6026400" y="55098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Box 44"/>
            <p:cNvSpPr/>
            <p:nvPr/>
          </p:nvSpPr>
          <p:spPr>
            <a:xfrm>
              <a:off x="6990120" y="55098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Box 48"/>
            <p:cNvSpPr/>
            <p:nvPr/>
          </p:nvSpPr>
          <p:spPr>
            <a:xfrm>
              <a:off x="4602960" y="5885280"/>
              <a:ext cx="12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(mi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Box 49"/>
            <p:cNvSpPr/>
            <p:nvPr/>
          </p:nvSpPr>
          <p:spPr>
            <a:xfrm rot="16200000">
              <a:off x="56520" y="3264120"/>
              <a:ext cx="22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xide Thickness (Å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Left Brace 51"/>
          <p:cNvSpPr/>
          <p:nvPr/>
        </p:nvSpPr>
        <p:spPr>
          <a:xfrm>
            <a:off x="1828800" y="4686480"/>
            <a:ext cx="857160" cy="685800"/>
          </a:xfrm>
          <a:custGeom>
            <a:avLst/>
            <a:gdLst>
              <a:gd name="textAreaLeft" fmla="*/ 547560 w 857160"/>
              <a:gd name="textAreaRight" fmla="*/ 857520 w 857160"/>
              <a:gd name="textAreaTop" fmla="*/ 43560 h 685800"/>
              <a:gd name="textAreaBottom" fmla="*/ 64224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00"/>
                  <a:pt x="10800" y="4400"/>
                </a:cubicBezTo>
                <a:lnTo>
                  <a:pt x="10800" y="8400"/>
                </a:lnTo>
                <a:cubicBezTo>
                  <a:pt x="10800" y="10600"/>
                  <a:pt x="5400" y="12800"/>
                  <a:pt x="0" y="12800"/>
                </a:cubicBezTo>
                <a:cubicBezTo>
                  <a:pt x="5400" y="12800"/>
                  <a:pt x="10800" y="15000"/>
                  <a:pt x="10800" y="17200"/>
                </a:cubicBezTo>
                <a:lnTo>
                  <a:pt x="10800" y="17200"/>
                </a:lnTo>
                <a:cubicBezTo>
                  <a:pt x="10800" y="194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2"/>
          <p:cNvSpPr/>
          <p:nvPr/>
        </p:nvSpPr>
        <p:spPr>
          <a:xfrm>
            <a:off x="2487600" y="5353200"/>
            <a:ext cx="22860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53"/>
          <p:cNvSpPr/>
          <p:nvPr/>
        </p:nvSpPr>
        <p:spPr>
          <a:xfrm>
            <a:off x="425520" y="4932360"/>
            <a:ext cx="167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pproximately linear growth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5"/>
          <p:cNvSpPr/>
          <p:nvPr/>
        </p:nvSpPr>
        <p:spPr>
          <a:xfrm>
            <a:off x="304920" y="6095880"/>
            <a:ext cx="293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blic Domain: Image generated by CNEU Staff for free 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– Silicon d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nace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y 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et 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Pressure Ox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Vapor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ing Dielectric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t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ation that occurs as a result of steam reacting with sil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+ 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400" spc="-1" strike="noStrike">
                <a:solidFill>
                  <a:srgbClr val="000000"/>
                </a:solidFill>
                <a:latin typeface="Hoefler Text Ornaments"/>
                <a:ea typeface="Hoefler Text Ornament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s oxide at a much faster rate and produces a lower quality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is technique when very thick oxides (i.e. field oxide) are needed rather than high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t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is performed in the furnace at high temperatures (normally 1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steam as the process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am is pyrolytic meaning that in high hea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reacted together to create water vapor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oduces a much purer steam for 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inated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chlorinated gases in the oxidation process can neutralize charge accumulation at the silicon oxide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lorinated agents are kept under 3% so instability is not created in the oxide lay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lorinate agents can increase growth rates by 10-15%.  This mechanism is poorly underst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hloroethane (TCA), an organochloride, offers low corrosion to the oxidatio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t Ox. Growth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3" descr="wet rate"/>
          <p:cNvPicPr/>
          <p:nvPr/>
        </p:nvPicPr>
        <p:blipFill>
          <a:blip r:embed="rId1"/>
          <a:stretch/>
        </p:blipFill>
        <p:spPr>
          <a:xfrm>
            <a:off x="1676520" y="1371600"/>
            <a:ext cx="54212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t Vs. Dry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y Ox. Grows higher quality ox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et Ox., steam reacts with silicon and produces hydrogen molecules.  These molecules become trapped in the oxide and change the stoichiometry of the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ichiometry indicates how closely the deposited film approaches the ratio of the elements given by its chem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t Vs. Dry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t Ox. grows oxides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10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, the solubility of water in silicon (total amount of water that can be present in a certain volume of silicon) is 600 times that of oxygen in silic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ough oxygen diffuses faster, it has a lower solubility and physically can fit fewer atoms in the silic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t Vs. Dry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1066680" y="2590920"/>
          <a:ext cx="7315200" cy="2490840"/>
        </p:xfrm>
        <a:graphic>
          <a:graphicData uri="http://schemas.openxmlformats.org/drawingml/2006/table">
            <a:tbl>
              <a:tblPr/>
              <a:tblGrid>
                <a:gridCol w="1828800"/>
                <a:gridCol w="1646280"/>
                <a:gridCol w="2193840"/>
                <a:gridCol w="1646280"/>
              </a:tblGrid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ide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 (°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ckness (Å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h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inut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t and Dry Oxide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5"/>
          <p:cNvGrpSpPr/>
          <p:nvPr/>
        </p:nvGrpSpPr>
        <p:grpSpPr>
          <a:xfrm>
            <a:off x="1514520" y="1225440"/>
            <a:ext cx="5549760" cy="5214240"/>
            <a:chOff x="1514520" y="1225440"/>
            <a:chExt cx="5549760" cy="5214240"/>
          </a:xfrm>
        </p:grpSpPr>
        <p:pic>
          <p:nvPicPr>
            <p:cNvPr id="440" name="Picture 3" descr="wet-dry graph"/>
            <p:cNvPicPr/>
            <p:nvPr/>
          </p:nvPicPr>
          <p:blipFill>
            <a:blip r:embed="rId1"/>
            <a:srcRect l="6730" t="0" r="1934" b="4042"/>
            <a:stretch/>
          </p:blipFill>
          <p:spPr>
            <a:xfrm rot="60000">
              <a:off x="1869120" y="1269720"/>
              <a:ext cx="5152320" cy="49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TextBox 3"/>
            <p:cNvSpPr/>
            <p:nvPr/>
          </p:nvSpPr>
          <p:spPr>
            <a:xfrm rot="16200000">
              <a:off x="626760" y="3433680"/>
              <a:ext cx="208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askerville Old Face"/>
                </a:rPr>
                <a:t>Oxide Thickness (µ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Box 4"/>
            <p:cNvSpPr/>
            <p:nvPr/>
          </p:nvSpPr>
          <p:spPr>
            <a:xfrm>
              <a:off x="3704400" y="6132600"/>
              <a:ext cx="130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askerville Old Face"/>
                </a:rPr>
                <a:t>Time (hour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is a chemical reaction in which silicon and oxygen form a stable material called silicon diox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ing Temp. – Decreasi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problems with increasing the temperature at which a process ru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diffusion of impurities present in the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ystal defects (stacking faul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anent damage from thermal st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 damage/more costly equipment to run at higher temper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– Silicon d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nace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y 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 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igh Pressure Ox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Vapor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ing Dielectric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Pressure Oxidation - HiP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grow thick layers of oxide in reduced time and temperature (i.e. field oxi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steam and oxygen as process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special HiPOx system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POx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42"/>
          <p:cNvGrpSpPr/>
          <p:nvPr/>
        </p:nvGrpSpPr>
        <p:grpSpPr>
          <a:xfrm>
            <a:off x="230400" y="2133720"/>
            <a:ext cx="8300880" cy="3690360"/>
            <a:chOff x="230400" y="2133720"/>
            <a:chExt cx="8300880" cy="3690360"/>
          </a:xfrm>
        </p:grpSpPr>
        <p:sp>
          <p:nvSpPr>
            <p:cNvPr id="451" name="Rectangle 3"/>
            <p:cNvSpPr/>
            <p:nvPr/>
          </p:nvSpPr>
          <p:spPr>
            <a:xfrm>
              <a:off x="853920" y="3162240"/>
              <a:ext cx="457200" cy="159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4"/>
            <p:cNvSpPr/>
            <p:nvPr/>
          </p:nvSpPr>
          <p:spPr>
            <a:xfrm>
              <a:off x="7940520" y="3162240"/>
              <a:ext cx="457200" cy="159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5"/>
            <p:cNvSpPr/>
            <p:nvPr/>
          </p:nvSpPr>
          <p:spPr>
            <a:xfrm>
              <a:off x="1082520" y="3314520"/>
              <a:ext cx="76320" cy="129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6"/>
            <p:cNvSpPr/>
            <p:nvPr/>
          </p:nvSpPr>
          <p:spPr>
            <a:xfrm>
              <a:off x="701640" y="3390840"/>
              <a:ext cx="380880" cy="114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7"/>
            <p:cNvSpPr/>
            <p:nvPr/>
          </p:nvSpPr>
          <p:spPr>
            <a:xfrm>
              <a:off x="396720" y="3848040"/>
              <a:ext cx="304920" cy="228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8"/>
            <p:cNvSpPr/>
            <p:nvPr/>
          </p:nvSpPr>
          <p:spPr>
            <a:xfrm>
              <a:off x="473040" y="3314520"/>
              <a:ext cx="76320" cy="1371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9"/>
            <p:cNvSpPr/>
            <p:nvPr/>
          </p:nvSpPr>
          <p:spPr>
            <a:xfrm>
              <a:off x="1158840" y="3466800"/>
              <a:ext cx="7086600" cy="990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10"/>
            <p:cNvSpPr/>
            <p:nvPr/>
          </p:nvSpPr>
          <p:spPr>
            <a:xfrm>
              <a:off x="1463760" y="3771720"/>
              <a:ext cx="594360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Quartz Tu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1"/>
            <p:cNvSpPr/>
            <p:nvPr/>
          </p:nvSpPr>
          <p:spPr>
            <a:xfrm>
              <a:off x="1235160" y="3771720"/>
              <a:ext cx="380880" cy="456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"/>
            <p:cNvSpPr/>
            <p:nvPr/>
          </p:nvSpPr>
          <p:spPr>
            <a:xfrm>
              <a:off x="1387440" y="377172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"/>
            <p:cNvSpPr/>
            <p:nvPr/>
          </p:nvSpPr>
          <p:spPr>
            <a:xfrm>
              <a:off x="1158840" y="4000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6"/>
            <p:cNvSpPr/>
            <p:nvPr/>
          </p:nvSpPr>
          <p:spPr>
            <a:xfrm>
              <a:off x="6111720" y="3771720"/>
              <a:ext cx="457200" cy="456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17"/>
            <p:cNvSpPr/>
            <p:nvPr/>
          </p:nvSpPr>
          <p:spPr>
            <a:xfrm>
              <a:off x="7254720" y="3771720"/>
              <a:ext cx="457200" cy="456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8"/>
            <p:cNvSpPr/>
            <p:nvPr/>
          </p:nvSpPr>
          <p:spPr>
            <a:xfrm>
              <a:off x="6340320" y="3771720"/>
              <a:ext cx="1143000" cy="456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9"/>
            <p:cNvSpPr/>
            <p:nvPr/>
          </p:nvSpPr>
          <p:spPr>
            <a:xfrm>
              <a:off x="6950160" y="400032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20"/>
            <p:cNvSpPr/>
            <p:nvPr/>
          </p:nvSpPr>
          <p:spPr>
            <a:xfrm>
              <a:off x="4587840" y="377172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21"/>
            <p:cNvSpPr/>
            <p:nvPr/>
          </p:nvSpPr>
          <p:spPr>
            <a:xfrm>
              <a:off x="4587840" y="422892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2"/>
            <p:cNvSpPr/>
            <p:nvPr/>
          </p:nvSpPr>
          <p:spPr>
            <a:xfrm>
              <a:off x="7254720" y="37717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24"/>
            <p:cNvSpPr/>
            <p:nvPr/>
          </p:nvSpPr>
          <p:spPr>
            <a:xfrm>
              <a:off x="1920960" y="3619440"/>
              <a:ext cx="5333760" cy="151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25"/>
            <p:cNvSpPr/>
            <p:nvPr/>
          </p:nvSpPr>
          <p:spPr>
            <a:xfrm>
              <a:off x="1920960" y="4228920"/>
              <a:ext cx="5333760" cy="151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7"/>
            <p:cNvSpPr/>
            <p:nvPr/>
          </p:nvSpPr>
          <p:spPr>
            <a:xfrm>
              <a:off x="6067440" y="3947760"/>
              <a:ext cx="44280" cy="777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8" h="49">
                  <a:moveTo>
                    <a:pt x="28" y="25"/>
                  </a:moveTo>
                  <a:cubicBezTo>
                    <a:pt x="23" y="33"/>
                    <a:pt x="12" y="49"/>
                    <a:pt x="12" y="49"/>
                  </a:cubicBezTo>
                  <a:cubicBezTo>
                    <a:pt x="15" y="36"/>
                    <a:pt x="26" y="21"/>
                    <a:pt x="20" y="9"/>
                  </a:cubicBezTo>
                  <a:cubicBezTo>
                    <a:pt x="16" y="0"/>
                    <a:pt x="0" y="24"/>
                    <a:pt x="4" y="33"/>
                  </a:cubicBezTo>
                  <a:cubicBezTo>
                    <a:pt x="8" y="41"/>
                    <a:pt x="20" y="28"/>
                    <a:pt x="28" y="25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29"/>
            <p:cNvSpPr/>
            <p:nvPr/>
          </p:nvSpPr>
          <p:spPr>
            <a:xfrm>
              <a:off x="1067760" y="4952880"/>
              <a:ext cx="82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ree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30"/>
            <p:cNvSpPr/>
            <p:nvPr/>
          </p:nvSpPr>
          <p:spPr>
            <a:xfrm>
              <a:off x="230400" y="21337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31"/>
            <p:cNvSpPr/>
            <p:nvPr/>
          </p:nvSpPr>
          <p:spPr>
            <a:xfrm>
              <a:off x="1296000" y="2438280"/>
              <a:ext cx="97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d C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32"/>
            <p:cNvSpPr/>
            <p:nvPr/>
          </p:nvSpPr>
          <p:spPr>
            <a:xfrm>
              <a:off x="2971080" y="2819160"/>
              <a:ext cx="17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eating El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33"/>
            <p:cNvSpPr/>
            <p:nvPr/>
          </p:nvSpPr>
          <p:spPr>
            <a:xfrm>
              <a:off x="5409720" y="2590560"/>
              <a:ext cx="152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jector Baff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34"/>
            <p:cNvSpPr/>
            <p:nvPr/>
          </p:nvSpPr>
          <p:spPr>
            <a:xfrm>
              <a:off x="7561080" y="5181480"/>
              <a:ext cx="97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jector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35"/>
            <p:cNvSpPr/>
            <p:nvPr/>
          </p:nvSpPr>
          <p:spPr>
            <a:xfrm flipH="1" flipV="1">
              <a:off x="1387080" y="4838400"/>
              <a:ext cx="22860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36"/>
            <p:cNvSpPr/>
            <p:nvPr/>
          </p:nvSpPr>
          <p:spPr>
            <a:xfrm>
              <a:off x="473040" y="2476440"/>
              <a:ext cx="15228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37"/>
            <p:cNvSpPr/>
            <p:nvPr/>
          </p:nvSpPr>
          <p:spPr>
            <a:xfrm flipH="1">
              <a:off x="1539360" y="2781000"/>
              <a:ext cx="22860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38"/>
            <p:cNvSpPr/>
            <p:nvPr/>
          </p:nvSpPr>
          <p:spPr>
            <a:xfrm>
              <a:off x="4054320" y="30859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39"/>
            <p:cNvSpPr/>
            <p:nvPr/>
          </p:nvSpPr>
          <p:spPr>
            <a:xfrm flipH="1">
              <a:off x="3673440" y="3085920"/>
              <a:ext cx="38088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40"/>
            <p:cNvSpPr/>
            <p:nvPr/>
          </p:nvSpPr>
          <p:spPr>
            <a:xfrm>
              <a:off x="6035760" y="2857320"/>
              <a:ext cx="759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41"/>
            <p:cNvSpPr/>
            <p:nvPr/>
          </p:nvSpPr>
          <p:spPr>
            <a:xfrm flipV="1">
              <a:off x="7788240" y="4076640"/>
              <a:ext cx="0" cy="106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Box 15"/>
          <p:cNvSpPr/>
          <p:nvPr/>
        </p:nvSpPr>
        <p:spPr>
          <a:xfrm>
            <a:off x="304920" y="6095880"/>
            <a:ext cx="293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blic Domain: Image generated by CNEU Staff for free 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P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at reduced tempera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65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– 9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ncreased press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5 – 20 at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POx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and pressure are inversely rela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362160" y="5638680"/>
            <a:ext cx="491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Assuming that the wafers are of the same thick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304920" y="2209680"/>
          <a:ext cx="8839080" cy="3430800"/>
        </p:xfrm>
        <a:graphic>
          <a:graphicData uri="http://schemas.openxmlformats.org/drawingml/2006/table">
            <a:tbl>
              <a:tblPr/>
              <a:tblGrid>
                <a:gridCol w="2946240"/>
                <a:gridCol w="2946600"/>
                <a:gridCol w="294624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. (°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sure (atm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ho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inu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POx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 and Press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very increase of one atmosphere, the temperature can be dropped by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to obtain the same thickness in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380880" y="3429000"/>
          <a:ext cx="8305920" cy="213372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(hour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sure (atm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. (°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POx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 and oxide dens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emperature decreases, oxide density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4" descr="temp-density"/>
          <p:cNvPicPr/>
          <p:nvPr/>
        </p:nvPicPr>
        <p:blipFill>
          <a:blip r:embed="rId1"/>
          <a:stretch/>
        </p:blipFill>
        <p:spPr>
          <a:xfrm>
            <a:off x="1752480" y="3200400"/>
            <a:ext cx="50022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P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Ox allows the oxidation to occur at a lower temperature and higher pres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shown, HiPOx will produce a higher quality (greater density) oxide in a shorter time than dry or wet oxidation can produce (for equal thicknes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– Silicon d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nace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y 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 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Pressure Ox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hemical Vapor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ing Dielectric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icon Diox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igh quality, stable electrical insulator mater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s naturally on sil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many u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V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position of oxide onto a wafer using the decomposition of si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Hoefler Text Ornaments"/>
                <a:ea typeface="Hoefler Text Ornament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S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osits” a layer of oxide as opposed to the other techniques that “grow” the ox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V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e is deposited at ~ 35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icon and oxygen react in plasma and deposit onto the wafer (other techniques diffuse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the wafer and use the wafer’s silicon to produce oxi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a nearly stoichiometric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x of Re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3"/>
          <p:cNvGrpSpPr/>
          <p:nvPr/>
        </p:nvGrpSpPr>
        <p:grpSpPr>
          <a:xfrm>
            <a:off x="2514600" y="1066680"/>
            <a:ext cx="3809880" cy="4876560"/>
            <a:chOff x="2514600" y="1066680"/>
            <a:chExt cx="3809880" cy="4876560"/>
          </a:xfrm>
        </p:grpSpPr>
        <p:sp>
          <p:nvSpPr>
            <p:cNvPr id="508" name="Rectangle 4"/>
            <p:cNvSpPr/>
            <p:nvPr/>
          </p:nvSpPr>
          <p:spPr>
            <a:xfrm>
              <a:off x="2666880" y="2382480"/>
              <a:ext cx="3657600" cy="6966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                  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=1.4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5"/>
            <p:cNvSpPr/>
            <p:nvPr/>
          </p:nvSpPr>
          <p:spPr>
            <a:xfrm>
              <a:off x="2666880" y="1763280"/>
              <a:ext cx="365760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=1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6"/>
            <p:cNvSpPr/>
            <p:nvPr/>
          </p:nvSpPr>
          <p:spPr>
            <a:xfrm>
              <a:off x="4267080" y="1066680"/>
              <a:ext cx="0" cy="255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7"/>
            <p:cNvSpPr/>
            <p:nvPr/>
          </p:nvSpPr>
          <p:spPr>
            <a:xfrm>
              <a:off x="2514600" y="1066680"/>
              <a:ext cx="1752480" cy="131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8"/>
            <p:cNvSpPr/>
            <p:nvPr/>
          </p:nvSpPr>
          <p:spPr>
            <a:xfrm>
              <a:off x="4267080" y="2382480"/>
              <a:ext cx="762120" cy="123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9"/>
            <p:cNvSpPr/>
            <p:nvPr/>
          </p:nvSpPr>
          <p:spPr>
            <a:xfrm>
              <a:off x="4268520" y="2692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10"/>
            <p:cNvSpPr/>
            <p:nvPr/>
          </p:nvSpPr>
          <p:spPr>
            <a:xfrm flipH="1">
              <a:off x="4571640" y="2692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11"/>
            <p:cNvSpPr/>
            <p:nvPr/>
          </p:nvSpPr>
          <p:spPr>
            <a:xfrm>
              <a:off x="3962520" y="2692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2"/>
            <p:cNvSpPr/>
            <p:nvPr/>
          </p:nvSpPr>
          <p:spPr>
            <a:xfrm>
              <a:off x="2743200" y="4937040"/>
              <a:ext cx="3581280" cy="61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=1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3"/>
            <p:cNvSpPr/>
            <p:nvPr/>
          </p:nvSpPr>
          <p:spPr>
            <a:xfrm>
              <a:off x="2743200" y="4240080"/>
              <a:ext cx="3581280" cy="6966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                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=1.4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4"/>
            <p:cNvSpPr/>
            <p:nvPr/>
          </p:nvSpPr>
          <p:spPr>
            <a:xfrm>
              <a:off x="4419720" y="3775680"/>
              <a:ext cx="0" cy="216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15"/>
            <p:cNvSpPr/>
            <p:nvPr/>
          </p:nvSpPr>
          <p:spPr>
            <a:xfrm>
              <a:off x="3124080" y="3388680"/>
              <a:ext cx="1295640" cy="15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>
              <a:off x="4419720" y="4937040"/>
              <a:ext cx="1371600" cy="85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7"/>
            <p:cNvSpPr/>
            <p:nvPr/>
          </p:nvSpPr>
          <p:spPr>
            <a:xfrm>
              <a:off x="4573440" y="516924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18"/>
            <p:cNvSpPr/>
            <p:nvPr/>
          </p:nvSpPr>
          <p:spPr>
            <a:xfrm>
              <a:off x="4800600" y="5401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9"/>
            <p:cNvSpPr/>
            <p:nvPr/>
          </p:nvSpPr>
          <p:spPr>
            <a:xfrm flipH="1">
              <a:off x="4495680" y="540144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TextBox 15"/>
          <p:cNvSpPr/>
          <p:nvPr/>
        </p:nvSpPr>
        <p:spPr>
          <a:xfrm>
            <a:off x="304920" y="6095880"/>
            <a:ext cx="293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blic Domain: Image generated by CNEU Staff for free 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V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us oxide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 or carbon dioxide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re actually preferred over oxy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xygen reacts too easily in the plasma and can cause poor film q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– Silicon d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nace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y 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 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Pressure Ox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Vapor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odifying Dielectric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ineering Dielectric Constant (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oncept centers around capacitance (C) and its relationship to signal time (T) when fabricating integrated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= dielectric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ermittivity of free space (const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= distance between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4046760" y="2971800"/>
            <a:ext cx="167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 =k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5"/>
          <p:cNvSpPr/>
          <p:nvPr/>
        </p:nvSpPr>
        <p:spPr>
          <a:xfrm>
            <a:off x="4724280" y="3581280"/>
            <a:ext cx="1143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510660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ineering Dielectric Constant (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 Time 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= resistance of 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= capaci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IC fabrication, the idea is to use the correct dielectric material with the right constants for a desired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s the capacitance the same to insure the signal time is not comprom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3657960" y="190512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= 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ineering Dielectric Constant (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of Me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gure of merit is a number expressed in farads/meter and is calculated by dividing capacitance (C) by area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constant in IC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device scaling changes, the dielectric  material must change to maintain the figure of merit’s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2588400" y="342900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/A = figure of me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ineering Dielectric Constant (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connects- wi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ire lines must be as close as possible in order to fit the maximum amount of transistors on a c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ance must be minimized, therefore; the dielectric material must have a low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s d decreases, k must also 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ineering Dielectric Constant (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ity is a key quality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easier to make the gates thicker, to insure that any variation in uniformity won’t impact device performance as dras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1: If a gate is 3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Å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terial uniformity that varies by 10Å drastically alters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 2: If a gate is 100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terial uniformity that varies by 10Å does not impact performance that drastically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15"/>
          <p:cNvSpPr/>
          <p:nvPr/>
        </p:nvSpPr>
        <p:spPr>
          <a:xfrm>
            <a:off x="6858000" y="5562720"/>
            <a:ext cx="2286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icon Diox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2826000" y="3124080"/>
            <a:ext cx="602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11"/>
          <p:cNvGrpSpPr/>
          <p:nvPr/>
        </p:nvGrpSpPr>
        <p:grpSpPr>
          <a:xfrm>
            <a:off x="5181480" y="1905120"/>
            <a:ext cx="3733560" cy="2666520"/>
            <a:chOff x="5181480" y="1905120"/>
            <a:chExt cx="3733560" cy="2666520"/>
          </a:xfrm>
        </p:grpSpPr>
        <p:sp>
          <p:nvSpPr>
            <p:cNvPr id="61" name="Oval 14"/>
            <p:cNvSpPr/>
            <p:nvPr/>
          </p:nvSpPr>
          <p:spPr>
            <a:xfrm>
              <a:off x="6285600" y="2190960"/>
              <a:ext cx="210240" cy="1900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5"/>
            <p:cNvSpPr/>
            <p:nvPr/>
          </p:nvSpPr>
          <p:spPr>
            <a:xfrm>
              <a:off x="5601600" y="2190960"/>
              <a:ext cx="210600" cy="190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6"/>
            <p:cNvSpPr/>
            <p:nvPr/>
          </p:nvSpPr>
          <p:spPr>
            <a:xfrm>
              <a:off x="5601600" y="3619440"/>
              <a:ext cx="210600" cy="190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7"/>
            <p:cNvSpPr/>
            <p:nvPr/>
          </p:nvSpPr>
          <p:spPr>
            <a:xfrm>
              <a:off x="5601600" y="2667240"/>
              <a:ext cx="210600" cy="190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8"/>
            <p:cNvSpPr/>
            <p:nvPr/>
          </p:nvSpPr>
          <p:spPr>
            <a:xfrm>
              <a:off x="5601600" y="3143160"/>
              <a:ext cx="210600" cy="190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19"/>
            <p:cNvSpPr/>
            <p:nvPr/>
          </p:nvSpPr>
          <p:spPr>
            <a:xfrm>
              <a:off x="6285600" y="3143160"/>
              <a:ext cx="210240" cy="190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0"/>
            <p:cNvSpPr/>
            <p:nvPr/>
          </p:nvSpPr>
          <p:spPr>
            <a:xfrm>
              <a:off x="6916680" y="2190960"/>
              <a:ext cx="210240" cy="190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1"/>
            <p:cNvSpPr/>
            <p:nvPr/>
          </p:nvSpPr>
          <p:spPr>
            <a:xfrm>
              <a:off x="6916680" y="3143160"/>
              <a:ext cx="210240" cy="190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2"/>
            <p:cNvSpPr/>
            <p:nvPr/>
          </p:nvSpPr>
          <p:spPr>
            <a:xfrm>
              <a:off x="6916680" y="3619440"/>
              <a:ext cx="210240" cy="190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3"/>
            <p:cNvSpPr/>
            <p:nvPr/>
          </p:nvSpPr>
          <p:spPr>
            <a:xfrm>
              <a:off x="7600320" y="2190960"/>
              <a:ext cx="210600" cy="1900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4"/>
            <p:cNvSpPr/>
            <p:nvPr/>
          </p:nvSpPr>
          <p:spPr>
            <a:xfrm>
              <a:off x="6916680" y="2667240"/>
              <a:ext cx="210240" cy="190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5"/>
            <p:cNvSpPr/>
            <p:nvPr/>
          </p:nvSpPr>
          <p:spPr>
            <a:xfrm>
              <a:off x="7600320" y="3143160"/>
              <a:ext cx="210600" cy="190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6"/>
            <p:cNvSpPr/>
            <p:nvPr/>
          </p:nvSpPr>
          <p:spPr>
            <a:xfrm>
              <a:off x="8284320" y="3619440"/>
              <a:ext cx="210600" cy="190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27"/>
            <p:cNvSpPr/>
            <p:nvPr/>
          </p:nvSpPr>
          <p:spPr>
            <a:xfrm>
              <a:off x="8284320" y="3143160"/>
              <a:ext cx="210600" cy="190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28"/>
            <p:cNvSpPr/>
            <p:nvPr/>
          </p:nvSpPr>
          <p:spPr>
            <a:xfrm>
              <a:off x="8284320" y="2667240"/>
              <a:ext cx="210600" cy="190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29"/>
            <p:cNvSpPr/>
            <p:nvPr/>
          </p:nvSpPr>
          <p:spPr>
            <a:xfrm>
              <a:off x="8284320" y="2190960"/>
              <a:ext cx="210600" cy="190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2"/>
            <p:cNvSpPr/>
            <p:nvPr/>
          </p:nvSpPr>
          <p:spPr>
            <a:xfrm>
              <a:off x="5601600" y="4095720"/>
              <a:ext cx="210600" cy="190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3"/>
            <p:cNvSpPr/>
            <p:nvPr/>
          </p:nvSpPr>
          <p:spPr>
            <a:xfrm>
              <a:off x="6285600" y="4095720"/>
              <a:ext cx="210240" cy="190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4"/>
            <p:cNvSpPr/>
            <p:nvPr/>
          </p:nvSpPr>
          <p:spPr>
            <a:xfrm>
              <a:off x="6916680" y="4095720"/>
              <a:ext cx="210240" cy="190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5"/>
            <p:cNvSpPr/>
            <p:nvPr/>
          </p:nvSpPr>
          <p:spPr>
            <a:xfrm>
              <a:off x="7600320" y="4095720"/>
              <a:ext cx="210600" cy="190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36"/>
            <p:cNvSpPr/>
            <p:nvPr/>
          </p:nvSpPr>
          <p:spPr>
            <a:xfrm>
              <a:off x="8284320" y="4095720"/>
              <a:ext cx="210600" cy="190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7"/>
            <p:cNvSpPr/>
            <p:nvPr/>
          </p:nvSpPr>
          <p:spPr>
            <a:xfrm>
              <a:off x="5812560" y="2286000"/>
              <a:ext cx="47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8"/>
            <p:cNvSpPr/>
            <p:nvPr/>
          </p:nvSpPr>
          <p:spPr>
            <a:xfrm>
              <a:off x="5707080" y="238104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40"/>
            <p:cNvSpPr/>
            <p:nvPr/>
          </p:nvSpPr>
          <p:spPr>
            <a:xfrm>
              <a:off x="7021800" y="285768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41"/>
            <p:cNvSpPr/>
            <p:nvPr/>
          </p:nvSpPr>
          <p:spPr>
            <a:xfrm>
              <a:off x="7021800" y="238104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2"/>
            <p:cNvSpPr/>
            <p:nvPr/>
          </p:nvSpPr>
          <p:spPr>
            <a:xfrm>
              <a:off x="5707080" y="380988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43"/>
            <p:cNvSpPr/>
            <p:nvPr/>
          </p:nvSpPr>
          <p:spPr>
            <a:xfrm>
              <a:off x="5707080" y="333396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4"/>
            <p:cNvSpPr/>
            <p:nvPr/>
          </p:nvSpPr>
          <p:spPr>
            <a:xfrm>
              <a:off x="5707080" y="285768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45"/>
            <p:cNvSpPr/>
            <p:nvPr/>
          </p:nvSpPr>
          <p:spPr>
            <a:xfrm>
              <a:off x="8389800" y="333396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46"/>
            <p:cNvSpPr/>
            <p:nvPr/>
          </p:nvSpPr>
          <p:spPr>
            <a:xfrm>
              <a:off x="8389800" y="285768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7"/>
            <p:cNvSpPr/>
            <p:nvPr/>
          </p:nvSpPr>
          <p:spPr>
            <a:xfrm>
              <a:off x="8389800" y="238104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8"/>
            <p:cNvSpPr/>
            <p:nvPr/>
          </p:nvSpPr>
          <p:spPr>
            <a:xfrm>
              <a:off x="7021800" y="380988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49"/>
            <p:cNvSpPr/>
            <p:nvPr/>
          </p:nvSpPr>
          <p:spPr>
            <a:xfrm>
              <a:off x="7021800" y="333396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0"/>
            <p:cNvSpPr/>
            <p:nvPr/>
          </p:nvSpPr>
          <p:spPr>
            <a:xfrm>
              <a:off x="8389800" y="380988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52"/>
            <p:cNvSpPr/>
            <p:nvPr/>
          </p:nvSpPr>
          <p:spPr>
            <a:xfrm>
              <a:off x="5707080" y="428616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53"/>
            <p:cNvSpPr/>
            <p:nvPr/>
          </p:nvSpPr>
          <p:spPr>
            <a:xfrm>
              <a:off x="5707080" y="190512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55"/>
            <p:cNvSpPr/>
            <p:nvPr/>
          </p:nvSpPr>
          <p:spPr>
            <a:xfrm>
              <a:off x="7021800" y="190512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57"/>
            <p:cNvSpPr/>
            <p:nvPr/>
          </p:nvSpPr>
          <p:spPr>
            <a:xfrm>
              <a:off x="8389800" y="190512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59"/>
            <p:cNvSpPr/>
            <p:nvPr/>
          </p:nvSpPr>
          <p:spPr>
            <a:xfrm>
              <a:off x="8389800" y="428616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60"/>
            <p:cNvSpPr/>
            <p:nvPr/>
          </p:nvSpPr>
          <p:spPr>
            <a:xfrm>
              <a:off x="7021800" y="428616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61"/>
            <p:cNvSpPr/>
            <p:nvPr/>
          </p:nvSpPr>
          <p:spPr>
            <a:xfrm>
              <a:off x="7127280" y="4190760"/>
              <a:ext cx="47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62"/>
            <p:cNvSpPr/>
            <p:nvPr/>
          </p:nvSpPr>
          <p:spPr>
            <a:xfrm>
              <a:off x="7127280" y="3238560"/>
              <a:ext cx="47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63"/>
            <p:cNvSpPr/>
            <p:nvPr/>
          </p:nvSpPr>
          <p:spPr>
            <a:xfrm>
              <a:off x="7127280" y="2286000"/>
              <a:ext cx="47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64"/>
            <p:cNvSpPr/>
            <p:nvPr/>
          </p:nvSpPr>
          <p:spPr>
            <a:xfrm>
              <a:off x="6496200" y="419076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65"/>
            <p:cNvSpPr/>
            <p:nvPr/>
          </p:nvSpPr>
          <p:spPr>
            <a:xfrm>
              <a:off x="5812560" y="4190760"/>
              <a:ext cx="47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66"/>
            <p:cNvSpPr/>
            <p:nvPr/>
          </p:nvSpPr>
          <p:spPr>
            <a:xfrm>
              <a:off x="5812560" y="3238560"/>
              <a:ext cx="47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67"/>
            <p:cNvSpPr/>
            <p:nvPr/>
          </p:nvSpPr>
          <p:spPr>
            <a:xfrm>
              <a:off x="7811280" y="4190760"/>
              <a:ext cx="47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68"/>
            <p:cNvSpPr/>
            <p:nvPr/>
          </p:nvSpPr>
          <p:spPr>
            <a:xfrm>
              <a:off x="7811280" y="3238560"/>
              <a:ext cx="47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69"/>
            <p:cNvSpPr/>
            <p:nvPr/>
          </p:nvSpPr>
          <p:spPr>
            <a:xfrm>
              <a:off x="7811280" y="2286000"/>
              <a:ext cx="47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71"/>
            <p:cNvSpPr/>
            <p:nvPr/>
          </p:nvSpPr>
          <p:spPr>
            <a:xfrm>
              <a:off x="6496200" y="323856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72"/>
            <p:cNvSpPr/>
            <p:nvPr/>
          </p:nvSpPr>
          <p:spPr>
            <a:xfrm>
              <a:off x="6496200" y="228600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73"/>
            <p:cNvSpPr/>
            <p:nvPr/>
          </p:nvSpPr>
          <p:spPr>
            <a:xfrm>
              <a:off x="5181480" y="4190760"/>
              <a:ext cx="4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75"/>
            <p:cNvSpPr/>
            <p:nvPr/>
          </p:nvSpPr>
          <p:spPr>
            <a:xfrm>
              <a:off x="5181480" y="3238560"/>
              <a:ext cx="4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77"/>
            <p:cNvSpPr/>
            <p:nvPr/>
          </p:nvSpPr>
          <p:spPr>
            <a:xfrm>
              <a:off x="5181480" y="2286000"/>
              <a:ext cx="4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8"/>
            <p:cNvSpPr/>
            <p:nvPr/>
          </p:nvSpPr>
          <p:spPr>
            <a:xfrm>
              <a:off x="8494920" y="2286000"/>
              <a:ext cx="4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80"/>
            <p:cNvSpPr/>
            <p:nvPr/>
          </p:nvSpPr>
          <p:spPr>
            <a:xfrm>
              <a:off x="8494920" y="3238560"/>
              <a:ext cx="4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82"/>
            <p:cNvSpPr/>
            <p:nvPr/>
          </p:nvSpPr>
          <p:spPr>
            <a:xfrm>
              <a:off x="8494920" y="4190760"/>
              <a:ext cx="4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84"/>
          <p:cNvSpPr/>
          <p:nvPr/>
        </p:nvSpPr>
        <p:spPr>
          <a:xfrm>
            <a:off x="7467120" y="480060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xide Lat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99"/>
          <p:cNvGrpSpPr/>
          <p:nvPr/>
        </p:nvGrpSpPr>
        <p:grpSpPr>
          <a:xfrm>
            <a:off x="1295280" y="2514600"/>
            <a:ext cx="2361960" cy="380880"/>
            <a:chOff x="1295280" y="2514600"/>
            <a:chExt cx="2361960" cy="380880"/>
          </a:xfrm>
        </p:grpSpPr>
        <p:sp>
          <p:nvSpPr>
            <p:cNvPr id="120" name="Oval 4"/>
            <p:cNvSpPr/>
            <p:nvPr/>
          </p:nvSpPr>
          <p:spPr>
            <a:xfrm>
              <a:off x="2267640" y="2514600"/>
              <a:ext cx="416520" cy="380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5"/>
            <p:cNvSpPr/>
            <p:nvPr/>
          </p:nvSpPr>
          <p:spPr>
            <a:xfrm>
              <a:off x="3240720" y="2514600"/>
              <a:ext cx="416520" cy="3808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7"/>
            <p:cNvSpPr/>
            <p:nvPr/>
          </p:nvSpPr>
          <p:spPr>
            <a:xfrm>
              <a:off x="1295280" y="2514600"/>
              <a:ext cx="416520" cy="3808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2684520" y="2641320"/>
              <a:ext cx="55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95"/>
            <p:cNvSpPr/>
            <p:nvPr/>
          </p:nvSpPr>
          <p:spPr>
            <a:xfrm>
              <a:off x="2684520" y="2768400"/>
              <a:ext cx="55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96"/>
            <p:cNvSpPr/>
            <p:nvPr/>
          </p:nvSpPr>
          <p:spPr>
            <a:xfrm>
              <a:off x="1711800" y="2641320"/>
              <a:ext cx="5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97"/>
            <p:cNvSpPr/>
            <p:nvPr/>
          </p:nvSpPr>
          <p:spPr>
            <a:xfrm>
              <a:off x="1711800" y="2768400"/>
              <a:ext cx="5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00"/>
          <p:cNvGrpSpPr/>
          <p:nvPr/>
        </p:nvGrpSpPr>
        <p:grpSpPr>
          <a:xfrm>
            <a:off x="1447920" y="4038480"/>
            <a:ext cx="2057040" cy="1523880"/>
            <a:chOff x="1447920" y="4038480"/>
            <a:chExt cx="2057040" cy="1523880"/>
          </a:xfrm>
        </p:grpSpPr>
        <p:sp>
          <p:nvSpPr>
            <p:cNvPr id="128" name="Oval 101"/>
            <p:cNvSpPr/>
            <p:nvPr/>
          </p:nvSpPr>
          <p:spPr>
            <a:xfrm>
              <a:off x="2219040" y="4038480"/>
              <a:ext cx="385560" cy="28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02"/>
            <p:cNvSpPr/>
            <p:nvPr/>
          </p:nvSpPr>
          <p:spPr>
            <a:xfrm>
              <a:off x="2219040" y="4705200"/>
              <a:ext cx="385560" cy="28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03"/>
            <p:cNvSpPr/>
            <p:nvPr/>
          </p:nvSpPr>
          <p:spPr>
            <a:xfrm>
              <a:off x="3119400" y="4657320"/>
              <a:ext cx="385560" cy="28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04"/>
            <p:cNvSpPr/>
            <p:nvPr/>
          </p:nvSpPr>
          <p:spPr>
            <a:xfrm>
              <a:off x="2476440" y="5276880"/>
              <a:ext cx="385560" cy="28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05"/>
            <p:cNvSpPr/>
            <p:nvPr/>
          </p:nvSpPr>
          <p:spPr>
            <a:xfrm>
              <a:off x="1447920" y="4943160"/>
              <a:ext cx="385560" cy="28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06"/>
            <p:cNvSpPr/>
            <p:nvPr/>
          </p:nvSpPr>
          <p:spPr>
            <a:xfrm flipV="1">
              <a:off x="1833480" y="4895640"/>
              <a:ext cx="38556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07"/>
            <p:cNvSpPr/>
            <p:nvPr/>
          </p:nvSpPr>
          <p:spPr>
            <a:xfrm>
              <a:off x="2476440" y="4991040"/>
              <a:ext cx="12816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8"/>
            <p:cNvSpPr/>
            <p:nvPr/>
          </p:nvSpPr>
          <p:spPr>
            <a:xfrm>
              <a:off x="2412000" y="43239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09"/>
            <p:cNvSpPr/>
            <p:nvPr/>
          </p:nvSpPr>
          <p:spPr>
            <a:xfrm>
              <a:off x="2604960" y="4848120"/>
              <a:ext cx="51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10"/>
          <p:cNvSpPr/>
          <p:nvPr/>
        </p:nvSpPr>
        <p:spPr>
          <a:xfrm>
            <a:off x="3200400" y="5181480"/>
            <a:ext cx="18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trahed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ucture of 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14"/>
          <p:cNvGrpSpPr/>
          <p:nvPr/>
        </p:nvGrpSpPr>
        <p:grpSpPr>
          <a:xfrm>
            <a:off x="7392960" y="5867280"/>
            <a:ext cx="1370160" cy="762120"/>
            <a:chOff x="7392960" y="5867280"/>
            <a:chExt cx="1370160" cy="762120"/>
          </a:xfrm>
        </p:grpSpPr>
        <p:sp>
          <p:nvSpPr>
            <p:cNvPr id="139" name="Text Box 85"/>
            <p:cNvSpPr/>
            <p:nvPr/>
          </p:nvSpPr>
          <p:spPr>
            <a:xfrm>
              <a:off x="7926480" y="624852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86"/>
            <p:cNvSpPr/>
            <p:nvPr/>
          </p:nvSpPr>
          <p:spPr>
            <a:xfrm>
              <a:off x="7392960" y="586728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Oxy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12"/>
            <p:cNvSpPr/>
            <p:nvPr/>
          </p:nvSpPr>
          <p:spPr>
            <a:xfrm>
              <a:off x="8534520" y="5867280"/>
              <a:ext cx="228600" cy="2286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13"/>
            <p:cNvSpPr/>
            <p:nvPr/>
          </p:nvSpPr>
          <p:spPr>
            <a:xfrm>
              <a:off x="8534520" y="6400800"/>
              <a:ext cx="228600" cy="228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117"/>
          <p:cNvSpPr/>
          <p:nvPr/>
        </p:nvSpPr>
        <p:spPr>
          <a:xfrm>
            <a:off x="6859440" y="5562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304920" y="6095880"/>
            <a:ext cx="293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blic Domain: Image generated by CNEU Staff for free 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ineering Dielectric Constant (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icker gate requires a dielectric material with a high k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s d increases, k must also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k Dielectric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k = 22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k = 20-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k =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f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k =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k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 k Dielectric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G, k = 3.4-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SQ, k = 2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noporous silica, k = 1.3-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orinated polyimide, k = 2.6-2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TFE, k = 1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VS-BCB, k = 2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omatic hydrocarbon, k = 2.6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e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d by check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m thickness and uniformity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cts (#/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lectric strength (MV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(M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proper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m Thick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e film thickness can be roughly judged by the color of the ox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general measurement, but can be use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685800"/>
          <a:ext cx="9144000" cy="6172200"/>
        </p:xfrm>
        <a:graphic>
          <a:graphicData uri="http://schemas.openxmlformats.org/drawingml/2006/table">
            <a:tbl>
              <a:tblPr/>
              <a:tblGrid>
                <a:gridCol w="1733400"/>
                <a:gridCol w="2838600"/>
                <a:gridCol w="1733400"/>
                <a:gridCol w="283860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ckn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ckn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5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μ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llow-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yal B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llow to “yellowish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llic to v. light yellow-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nation P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ld w/ orange-ye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olet-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-viol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ue to Blue-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ll, light Red-viol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llow-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ue-viol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ue-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nation P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llow to “yellowish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ue-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nation P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</a:tbl>
          </a:graphicData>
        </a:graphic>
      </p:graphicFrame>
      <p:sp>
        <p:nvSpPr>
          <p:cNvPr id="150" name="Rectangle 14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licon Dioxide Thick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20:57:17Z</dcterms:created>
  <dc:creator>lsh121</dc:creator>
  <dc:description/>
  <dc:language>en-US</dc:language>
  <cp:lastModifiedBy>Lisa A. Daub</cp:lastModifiedBy>
  <dcterms:modified xsi:type="dcterms:W3CDTF">2013-04-03T14:10:59Z</dcterms:modified>
  <cp:revision>51</cp:revision>
  <dc:subject/>
  <dc:title>Nanofabrication Manufacturing Technology</dc:title>
</cp:coreProperties>
</file>